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E4B48-B576-428C-AFA4-45DE149C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7C9E-FA44-450A-9ADC-25185D1C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929A-9A66-4C59-86E4-E8D7FE57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F3FD-785D-4CE8-91F8-9C1D5106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877F-F4D8-4FFA-929A-443292D0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8914-DDD9-4518-BB04-873577A9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E5BB-90A0-4178-9CA1-B1B09999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8D5F-CFF4-49FC-AC1B-55DBB289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69B0-F3E2-4A9F-A34A-05A95176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6DB0-4B34-441B-BF14-2509FECA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00A9-01B5-4B20-B528-C01E0E89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0A3C-78D6-4010-AF0D-C8E234E3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81AB-0847-42E6-8D3D-F0A43718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C206-F04A-422A-BF05-87D0BAA0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254C-D712-4176-AA62-4ABF2B4B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FE8A-4D19-42C3-B844-209E7340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B55D-B777-4EAA-A775-333D0977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999C-530A-47D3-8372-472C123C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03B2-268D-4869-AD17-48475442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0958-B71B-49C1-AEF7-E7D33E3C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583EE-3D83-4775-B0A9-FAF82B63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A579F-2119-4BB1-89B8-3428228D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E1E8-A063-4352-BDE2-2E6E3AD0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516B-58AF-4CE6-9685-B901E22B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1C52-ABAC-4064-AABC-B7E06D29BC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26B5-5790-4C96-A89C-DE2B7CC0B6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Arial"/>
              </a:rPr>
              <a:t>Матрично-аналитическая процедура регионального бенчмаркинга инновационной инфраструктуры Российской Федерации</a:t>
            </a: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76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сковкин Владимир Михайлович, д.г.н., проф. кафедры мировой экономики БелГУ;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рымский Илья Александрович, аспирант кафедры мировой экономики БелГ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е матрицы для российских организаций инновационной инфраструктуры, построенные на базах данных Национального информационно-аналитического центра по мониторингу инновационной инфраструктуры научно-технической деятельности и региональных инновационных систем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[1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и Портала информационной поддержки инноваций и бизнеса «Инновации и предпринимательство»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[2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имеют вид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ij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 гд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ij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количество организаций инновационной инфраструктуры для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й группы (типа) 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го субъекта РФ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количество групп (типов) инновационной инфраструктуры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количество субъектов РФ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[1]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miiris.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[2]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innovbusiness.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5e5ff"/>
                </a:solidFill>
                <a:latin typeface="Garamond"/>
              </a:rPr>
              <a:t>Таблица 1. Матрица российской инновационной инфраструктуры, составленная на основе базы данных Национального информационно-аналитического центра по мониторингу инновационной инфраструктуры</a:t>
            </a:r>
            <a:r>
              <a:rPr b="1" lang="en-US" sz="1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e5e5ff"/>
                </a:solidFill>
                <a:latin typeface="Garamond"/>
              </a:rPr>
              <a:t>научно-технической деятельности и региональных инновационных систем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660280"/>
            <a:ext cx="629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КИ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- органы координации инновационн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ИТЦ, ЦТТ – информационно-технологические центры, центры трансфера техноло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ЦНТИ - центры научно-технической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ТП, БИ - технопарки, бизнес-инкуба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ФК, ВФ - финансовые компании, венчурные фон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907920"/>
          <a:ext cx="8742240" cy="3805200"/>
        </p:xfrm>
        <a:graphic>
          <a:graphicData uri="http://schemas.openxmlformats.org/drawingml/2006/table">
            <a:tbl>
              <a:tblPr/>
              <a:tblGrid>
                <a:gridCol w="298440"/>
                <a:gridCol w="782640"/>
                <a:gridCol w="468360"/>
                <a:gridCol w="420480"/>
                <a:gridCol w="465120"/>
                <a:gridCol w="355680"/>
                <a:gridCol w="361800"/>
                <a:gridCol w="454320"/>
                <a:gridCol w="468000"/>
                <a:gridCol w="420840"/>
                <a:gridCol w="465120"/>
                <a:gridCol w="355680"/>
                <a:gridCol w="361800"/>
                <a:gridCol w="471600"/>
                <a:gridCol w="468360"/>
                <a:gridCol w="420480"/>
                <a:gridCol w="465120"/>
                <a:gridCol w="389160"/>
                <a:gridCol w="361800"/>
                <a:gridCol w="487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юнь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ентябрь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20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азниц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КИ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ТЦ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Т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Н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П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К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КИ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ТЦ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Т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Н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П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К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КИ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ТЦ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Т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ЦНТ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П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К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Ф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лтайский кра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мурская обл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рхангельская обл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страханская обл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елгородская обл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-------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--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увашская Республик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мало-Ненецкий А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рославская обл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8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8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e5ff"/>
                </a:solidFill>
                <a:latin typeface="Garamond"/>
              </a:rPr>
              <a:t>Таблица 2. Матрица российской инновационной инфраструктуры, составленная на основе базы данных Портала информационной поддержки инноваций и бизнеса «Инновации и предпринимательство»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907920"/>
          <a:ext cx="8640720" cy="4545000"/>
        </p:xfrm>
        <a:graphic>
          <a:graphicData uri="http://schemas.openxmlformats.org/drawingml/2006/table">
            <a:tbl>
              <a:tblPr/>
              <a:tblGrid>
                <a:gridCol w="343080"/>
                <a:gridCol w="1385640"/>
                <a:gridCol w="403560"/>
                <a:gridCol w="403200"/>
                <a:gridCol w="326880"/>
                <a:gridCol w="355680"/>
                <a:gridCol w="341280"/>
                <a:gridCol w="473040"/>
                <a:gridCol w="403200"/>
                <a:gridCol w="403200"/>
                <a:gridCol w="327240"/>
                <a:gridCol w="355320"/>
                <a:gridCol w="341280"/>
                <a:gridCol w="474840"/>
                <a:gridCol w="403200"/>
                <a:gridCol w="403200"/>
                <a:gridCol w="326880"/>
                <a:gridCol w="333360"/>
                <a:gridCol w="341640"/>
                <a:gridCol w="495000"/>
              </a:tblGrid>
              <a:tr h="342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оны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юнь 200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ь 200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ниц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Т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Т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Т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гинский Бурятский автономный окру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тайский кра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мурская обла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хангельская обла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траханская обла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городская обла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­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увашская Республ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рославская обла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39640" y="5730120"/>
            <a:ext cx="481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ПТГ - Производственно-технологическ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ЭКГ - Экспертно-консалтингов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КГ - Кадровая групп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ИГ - Информационн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ФГ - Финансовая групп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392760" y="404640"/>
            <a:ext cx="1030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пределение организаций инновационной инфраструктуры по их тип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 основе базы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анных Национального информационно-аналитического цент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мониторингу инновационной инфраструктуры научно-технической деятель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 региональных инновационных систем, июнь 20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596880"/>
          <a:ext cx="8785440" cy="605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96880"/>
                    <a:ext cx="878544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39640" y="5730120"/>
            <a:ext cx="481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ПТГ - Производственно-технологическ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ЭКГ - Экспертно-консалтингов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КГ - Кадровая групп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ИГ - Информационн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ФГ - Финансовая групп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404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пределение организаций инновационной инфраструктуры по их тип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 основе базы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анных Портала информационной поддержки инноваци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изнеса «Инновации и предпринимательство», июнь 20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52280"/>
          <a:ext cx="932508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32508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80880" y="5660280"/>
            <a:ext cx="629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КИ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- органы координации инновационн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ИТЦ, ЦТТ – информационно-технологические центры, центры трансфера техноло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ЦНТИ - центры научно-технической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ТП, БИ - технопарки, бизнес-инкуба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ФК, ВФ - финансовые компании, венчурные фон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392760" y="404640"/>
            <a:ext cx="1030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пределение организаций инновационной инфраструктуры по их тип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 основе базы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анных Национального информационно-аналитического цент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мониторингу инновационной инфраструктуры научно-технической деятель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 региональных инновационных систем, сентябрь 20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455760"/>
            <a:ext cx="8893080" cy="631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730120"/>
            <a:ext cx="481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ПТГ - Производственно-технологическ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ЭКГ - Экспертно-консалтингов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КГ - Кадровая групп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ИГ - Информационная 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ФГ - Финансовая групп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404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аспределение организаций инновационной инфраструктуры по их тип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 основе базы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анных Портала информационной поддержки инноваци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изнеса «Инновации и предпринимательство», сентябрь 20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92160"/>
          <a:ext cx="8964720" cy="619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160"/>
                    <a:ext cx="8964720" cy="61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80880" y="5660280"/>
            <a:ext cx="629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Times New Roman"/>
              </a:rPr>
              <a:t>ОКИ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- органы координации инновационн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ИТЦ, ЦТТ – информационно-технологические центры, центры трансфера технолог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ЦНТИ - центры научно-технической информ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ТП, БИ - технопарки, бизнес-инкуба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ФК, ВФ - финансовые компании, венчурные фон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дальнейшем планируется трансформировать построенные матрицы в электронный вид таким образом, чтобы с помощью гиперссылок можно было бы переходить к стандартизированному описанию организаций инновационной инфраструкту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сле этого будет целесообразно передать эту бенчмаркинговую процедуру матрично-аналитического типа для эксплуатации владельцам вышеуказанных баз данных (слайд 2) или Национальной ассоциации по инновациям и развитию информационных технологий (НАИРИТ), которая планирует проводить независимый мониторинг инновационной активности субъектов Российской Федерации. С другой стороны Федеральное агентство по научным исследованиям и инновациям могло бы гораздо быстрее сформировать максимально полную базу данных по организациям инновационной инфраструктуры и воспользоваться вышеуказанной бенчмаркинговой процедурой для её мониторинга, а также принятия решений в области стимулирования её развит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нализ предыдущих слайдов показывает, что наиболее активно инновационная инфраструктура развивается в столичных и крупных регионах и для организаций производственно-технологической группы (технопарки, бизнес-инкубаторы и др.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9:57:58Z</dcterms:created>
  <dc:creator>dept</dc:creator>
  <dc:description/>
  <dc:language>en-US</dc:language>
  <cp:lastModifiedBy>dept</cp:lastModifiedBy>
  <dcterms:modified xsi:type="dcterms:W3CDTF">2007-12-03T14:55:38Z</dcterms:modified>
  <cp:revision>12</cp:revision>
  <dc:subject/>
  <dc:title>Матрично-аналитическая процедура регионального бенчмаркинга инновационной инфраструктуры Российской Федерации </dc:title>
</cp:coreProperties>
</file>