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48DBE-59DC-4DF1-A06C-05BE09E3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FEF84-760A-49A3-A978-171F3ECA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4D223-3784-4106-8FA0-0E282533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9C5F9-B312-4A7D-8EFB-110EF2FE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066C-5DC4-491A-A0FA-984BA4E3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BFB8-2B91-4953-B0E8-717D1BDE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F544-F2B6-4ADD-945C-F2273B4F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6C61-D619-4D99-8BB6-7542E859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6AF0-5159-496B-99B5-09A212B8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5B24-AF7F-48C9-B42B-65965BB7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357E-8DFC-4F4D-B914-4C5B9310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AE86-52C6-43CB-8272-F82A4C7D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48A8-B394-47DF-9FEB-F88DE97C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C227-E344-4F23-B97C-E580B4EA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7E27-98F7-4F19-800A-D22EA0CA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EB0D-4884-4609-8299-6F350188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89F2-3AC4-4AC8-930B-2E8EAAD6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F5300-7552-4A1E-B00D-07252496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BC992-B8B1-42F1-9ABA-84ED2BB5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9E2D1-F145-4869-B4E2-3C5ED23B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F84B8-AF85-46B8-9589-FF10A57B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0A499-2F65-4201-8ECA-12DEC7FA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1E3EA-BF57-4512-8502-3D75F048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56787-0094-480E-BFD6-01D138B9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B7B8-35C2-4AA5-BAE6-B029B88384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599E-1755-4875-AD29-B60319A4B0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1844280"/>
            <a:ext cx="6548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тодология вебометрического ранжирования университетов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76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сковкин Владимир Михайлович, д.г.н., проф. кафедры мировой экономики БелГУ;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рымский Илья Александрович, аспирант кафедры мировой экономики БелГ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истемы рейтинговой оценки университетской деятельно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285920"/>
            <a:ext cx="878544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мире существует много систем рейтингового оценивания университетской деятельности как на стартовом, так и на глобальном уровне. Они основываю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фактических данных статистических обследований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rd Data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экспертных оценках и опросах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rvey Data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основе смешанных процеду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о не существует идеальных рейтинговых систем оценки университетской деятельности, которые бы устраивали все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тестное движение в отношении рейтингового оценивания университетской деятельно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470960"/>
            <a:ext cx="878544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2007 году группа американских колледжей объявила бойкот самым влиятельным процедурам университетского ранжирования в США, так как  многие эксперты уверены, что они основаны на сомнительной методологии и фальшивых дан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ни также убеждены, что все общеизвестные в мире процедуры такого ранжирования в некоторой степени ущербны, причем на фундаментальном уровн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м. статью Д.Батлера, в журнале «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Nature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» от 31 мая 2007 г. «Ученые наносят удар фальшивому ранжированию».  (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ww.nature.com/nature/journal/v447/n7144/full/447514b.html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ичины ущербности основных мировых рейтингов университет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745560"/>
            <a:ext cx="87854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йтинги US News &amp; World Report и British Times Higher Education Supplement (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ES) сильно зависят от опросов тысячи экспертов, что во многом приводит к спорным результата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итайская процедура академического ранжирования основана на более объективных количественных данных (цитирование, публикации в журналах «Nature” и  “Science”, количество лауреатов Нобелевской премии), но база данных по цитированию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I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една для таких целей, так как названия университетов произносятся по разному от статьи к статье, а университетские филиалы часто совершенно упуще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оиски альтернативных процедур ранжирования университет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823680"/>
            <a:ext cx="878544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Исследователи Лейденского университета предложили «весовое» цитирование, в результате которого университет, работающий в высокоцитируемой области исследований, не получает искусственно завышенных оценок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В альтернативу существующим системам ранжирования университетов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German Center for Higher Education Development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предложил свои рейтинги для почти 300 центрально-европейских университет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US Commission on the Future of Higher Education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ассматривает вопрос создания процедуры, альтернативной рейтингу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US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ews &amp; World Report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Вебометрическая процедура ранжирования университетов мира (Испания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ебометрическая процедура ранжирования университетов ми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509840"/>
            <a:ext cx="8785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Общие данны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работана испанской киберметрической лабораторией Центра научной информации и документации Испанского национального исследовательского совет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www.webometrics.inf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,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учный директор лаборатории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idro F.Aguillo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пущена в 2004 год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хватывает более 5 000 университетов мира, включая около 450 российски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счеты проводятся 2 раза в г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ебометрическая процедура ранжирования университетов ми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632880"/>
            <a:ext cx="87854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Цел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нжирование и классификация университе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имулирование университетских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b-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убликаций, включая первичные данные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w data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, обучающие материалы, мультимедийные ресурсы и П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Воздействие на университетскую политик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ставание вебометрического рейтинга от традиционного (или ожидаемого положения, согласно сформировавшемуся академическому имиджу университета) является сигналом руководству университета для пересмотра своей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b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поли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ебометрическая процедура ранжирования университетов ми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901440"/>
            <a:ext cx="878544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Garamond"/>
              </a:rPr>
              <a:t>Методология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Измеряются следующие показател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Количество страниц, полученных от поисковых машин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Google, Yahoo, Live Search, Exalead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(«Size»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Количество уникальных внешних ссылок, полученных с помощью трех последних машин («Visibility»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Количество файлов определенных типов (pdf, ps, doc и ppt), полученных с помощью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Google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 («Rich Files»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Количество академических документов и их цитируемость, получаемые с помощью Google Scholar («Scholar»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К этим показателям применяются процедуры лог-нормирования и взвешивания с целью получения интегрального показател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5e5ff"/>
                </a:solidFill>
                <a:latin typeface="Garamond"/>
              </a:rPr>
              <a:t>Web-</a:t>
            </a:r>
            <a:r>
              <a:rPr b="1" lang="ru-RU" sz="3700" spc="-1" strike="noStrike">
                <a:solidFill>
                  <a:srgbClr val="e5e5ff"/>
                </a:solidFill>
                <a:latin typeface="Garamond"/>
              </a:rPr>
              <a:t>рейтинги российских университетов</a:t>
            </a:r>
            <a:endParaRPr b="1" lang="en-US" sz="37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831960"/>
          <a:ext cx="8074080" cy="5897520"/>
        </p:xfrm>
        <a:graphic>
          <a:graphicData uri="http://schemas.openxmlformats.org/drawingml/2006/table">
            <a:tbl>
              <a:tblPr/>
              <a:tblGrid>
                <a:gridCol w="1033560"/>
                <a:gridCol w="842760"/>
                <a:gridCol w="943200"/>
                <a:gridCol w="1001520"/>
                <a:gridCol w="843120"/>
                <a:gridCol w="1487520"/>
                <a:gridCol w="1006200"/>
                <a:gridCol w="916200"/>
              </a:tblGrid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нварь 2007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юль 2007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диционный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рейтинг,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ниверсите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ый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б-рейтин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ровой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б-рейтин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ниверсите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ый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еб-рейтин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ровой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б-рейтин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ниверсите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Ф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Ф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Ф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Д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4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т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Ф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с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5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с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Ф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ал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ал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Ф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БГУ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Нальчик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т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У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Оренбург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рГУ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аратов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рГУ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аратов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Д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юм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Д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м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ЮУ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л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3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ж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Нижний Новгород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ш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У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Оренбург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рГУ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аратов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л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9:57:58Z</dcterms:created>
  <dc:creator>dept</dc:creator>
  <dc:description/>
  <dc:language>en-US</dc:language>
  <cp:lastModifiedBy>dept</cp:lastModifiedBy>
  <dcterms:modified xsi:type="dcterms:W3CDTF">2008-01-17T09:53:31Z</dcterms:modified>
  <cp:revision>55</cp:revision>
  <dc:subject/>
  <dc:title>Матрично-аналитическая процедура регионального бенчмаркинга инновационной инфраструктуры Российской Федерации </dc:title>
</cp:coreProperties>
</file>