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D0E5-EAAD-49A7-9C6B-090AC458B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8D24-2E60-48DD-AED6-7B315EDD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A93B-B246-4AFF-85F8-79EF9B190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7F0C-B509-4C5E-9CE1-9FDB6525F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2EC0D-667C-4EBD-88AF-B658C3702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9BB2B-65A2-46B5-B647-38B0F7579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6CA70-6DAA-4AC7-BE17-85010D260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DD65C-60FA-4731-A69F-4B62D785D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8754D-AD6B-43A5-B59F-A48267765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BEC93-0C53-4D66-B702-6C31F1302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8FCF5-A6E5-4D1C-9987-AD6ED1C7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BA53-DAD6-4EC2-A375-B037AD639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F7B8D-138E-4A64-B751-813DBE60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0F41B-F528-42E0-95A8-D9E8D939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FC26A-2583-4109-A0EF-47C036703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EB9A6-5EB0-4CEB-B372-224621533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DE145-D4D1-49AF-B90D-90FC77360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E909-BBC8-47D4-A5B9-6225BEC09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906F-4F65-41C3-B5A0-EB2F16283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7958-1E7E-48B7-94AB-2009312B3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1DA8-2D92-43BC-BDD6-38C60CD08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0EB6-BD7D-4842-A8F0-75DA4F10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8CBF-2C20-4E73-9475-73B5758C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C35C-39CE-4F17-81B0-6A7F5FC5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3BB17-BCE6-4D56-B97C-709F263D1F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9AAC7-9965-485C-9FE1-BF0D45047A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aebr.eu/" TargetMode="Externa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aebr.eu/" TargetMode="External"/><Relationship Id="rId2" Type="http://schemas.openxmlformats.org/officeDocument/2006/relationships/hyperlink" Target="http://www.eurotoolproject.eu/" TargetMode="External"/><Relationship Id="rId3" Type="http://schemas.openxmlformats.org/officeDocument/2006/relationships/hyperlink" Target="http://www.webometrics.info/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rossborder.org.ua/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1052640"/>
            <a:ext cx="864216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7"/>
                </a:solidFill>
                <a:latin typeface="Times New Roman"/>
              </a:rPr>
              <a:t> </a:t>
            </a:r>
            <a:r>
              <a:rPr b="0" lang="ru-RU" sz="4800" spc="-1" strike="noStrike">
                <a:solidFill>
                  <a:srgbClr val="ffffb7"/>
                </a:solidFill>
                <a:latin typeface="Times New Roman"/>
              </a:rPr>
              <a:t>Инструменты трансграничной кооперации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58920" y="3860280"/>
            <a:ext cx="6781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b7"/>
                </a:solidFill>
                <a:latin typeface="Times New Roman"/>
              </a:rPr>
              <a:t>Московкин Владимир Михайлович, д.г.н., проф. кафедры мировой экономики БелГУ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3640" y="115560"/>
            <a:ext cx="837396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Европейская ассоциация приграничных регионов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История развития, члены ассоциации и их краткая характеристика, карта-схема приграничных и трансграничных регионов Европы.</a:t>
            </a:r>
            <a:br>
              <a:rPr sz="2800"/>
            </a:b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Программы, проекты и кластерные инициативы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Описание текущих программ, проектов и кластерных инициатив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 качестве кластерных инициатив рассматриваются запущенные инициативы по созданию строительного, фармацевтического и туристического трансграничных кластеров.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23640" y="907920"/>
            <a:ext cx="8497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Мероприят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Текущие мероприятия (встречи, семинары, конференции и др.) освещаются в «Новостях» (события) и размещаются в хронологическом порядке в разделе «мероприятия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Анкетирова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омплекс анкет, заполненных на предмет заинтересованности в трансграничной кооперации и на предмет составления профилей компаний и организац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Times New Roman"/>
              </a:rPr>
              <a:t>Матрица количества организаций поддержки инноваций и бизнеса по территориальным образованиям и группам для Харьковской области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39640" y="1844640"/>
          <a:ext cx="8007480" cy="4680000"/>
        </p:xfrm>
        <a:graphic>
          <a:graphicData uri="http://schemas.openxmlformats.org/drawingml/2006/table">
            <a:tbl>
              <a:tblPr/>
              <a:tblGrid>
                <a:gridCol w="2016360"/>
                <a:gridCol w="1063440"/>
                <a:gridCol w="1366920"/>
                <a:gridCol w="698400"/>
                <a:gridCol w="816120"/>
                <a:gridCol w="698400"/>
                <a:gridCol w="1347840"/>
              </a:tblGrid>
              <a:tr h="363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руппы организац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рриториальные образов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.Харьк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алковский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-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-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ый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-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угуевский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-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изводственно-технологическ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ru-RU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ru-RU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ru-RU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кспертно-консалтингов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j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-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я групп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j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ортивно-оздоровительн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j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Times New Roman"/>
              </a:rPr>
              <a:t>Примечания к матрице количества организаций поддержки инноваций и бизнеса по территориальным образованиям и группам для Харьковской области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1989000"/>
            <a:ext cx="8424720" cy="38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лемент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ij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матрицы 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ij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) означает количество организаций поддержки инноваций и бизнеса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ой группы в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 территориальном образовани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 электронной реализации этой матрицы, подводя курсор к элементу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ij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мы получим перечень всех организаций данной группы в данном территориальном образовании с гиперссылками на их профил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Times New Roman"/>
              </a:rPr>
              <a:t>Классификация  организаций поддержки инноваций и бизнеса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68360" y="981000"/>
          <a:ext cx="8007480" cy="5649840"/>
        </p:xfrm>
        <a:graphic>
          <a:graphicData uri="http://schemas.openxmlformats.org/drawingml/2006/table">
            <a:tbl>
              <a:tblPr/>
              <a:tblGrid>
                <a:gridCol w="842760"/>
                <a:gridCol w="2560680"/>
                <a:gridCol w="4604040"/>
              </a:tblGrid>
              <a:tr h="59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рупп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меры организац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изводственно-технологическа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хнопарки, бизнес-инкубаторы, инновационно-технологические центр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кспертно-консалтингова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нсалтинговые центры, центры трансфера технолог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формационно-аналитическа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формационно-аналитические центры, информационные центр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дрова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ниверситеты, центры переподготовки, обучающие центры, бизнес-школ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учно-исследовательская и опытно-конструкторска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ИИ, НИЦ, СК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инансово-инновационна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енчурные фонды, фонды посевного капитала, инновационно-инвестиционные фонд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ддержки малого бизнес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онды поддержки малого предпринимательств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оргово-офисна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орговые дома, офисные центр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анспортно-складска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анспортные агентства, склад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уристско-гостинична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урбазы, гостиницы, пансионат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ставочно-ярмарочна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кспоцентры, выставочные зал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ортивно-оздоровительна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ауны, тренажерные залы, теннисные корты, спортзал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Times New Roman"/>
              </a:rPr>
              <a:t>Матрица количества компаний по территориальным образованиям и типам для Харьковской области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539640" y="1844640"/>
          <a:ext cx="8007480" cy="4643640"/>
        </p:xfrm>
        <a:graphic>
          <a:graphicData uri="http://schemas.openxmlformats.org/drawingml/2006/table">
            <a:tbl>
              <a:tblPr/>
              <a:tblGrid>
                <a:gridCol w="2016360"/>
                <a:gridCol w="1063440"/>
                <a:gridCol w="1366920"/>
                <a:gridCol w="698400"/>
                <a:gridCol w="816120"/>
                <a:gridCol w="698400"/>
                <a:gridCol w="1347840"/>
              </a:tblGrid>
              <a:tr h="363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ипы компан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рриториальные образов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.Харьк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алковский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-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-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ый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-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угуевский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-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роительны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ru-RU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ru-RU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ru-RU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шиностроитель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ы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j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-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ый тип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j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имико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армацевтическ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j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Times New Roman"/>
              </a:rPr>
              <a:t>Примечания к матрице количества компаний по территориальным образованиям и типам для Харьковской области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2276640"/>
            <a:ext cx="8424720" cy="37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лемент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ij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матрицы 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j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) означает количество компаний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го типа в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 территориальном образовани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 электронной реализации этой матрицы, подводя курсор к элементу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j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мы получим перечень всех компаний данного типа в данном территориальном образовании с гиперссылками на их производственно-инновационные профил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Times New Roman"/>
              </a:rPr>
              <a:t>Распределение еврорегионов по крупным европейским областям, 2007 г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684360" y="1268280"/>
          <a:ext cx="8007120" cy="5396040"/>
        </p:xfrm>
        <a:graphic>
          <a:graphicData uri="http://schemas.openxmlformats.org/drawingml/2006/table">
            <a:tbl>
              <a:tblPr/>
              <a:tblGrid>
                <a:gridCol w="2830320"/>
                <a:gridCol w="1768680"/>
                <a:gridCol w="1704960"/>
                <a:gridCol w="1703160"/>
              </a:tblGrid>
              <a:tr h="3682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упные европейские обла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 еврорегион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 участие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краи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еверная Европа и Балтийское мор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ентральная и Восточная Европ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еверо-западная Европ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льпийско-Дунайская обла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Юго-западная Европ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Юго-восточная Европ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упномасштабная трансграничная кооперац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Times New Roman"/>
              </a:rPr>
              <a:t>Еврорегионы с участием Украины, 2007 г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24000" y="1125360"/>
          <a:ext cx="8521200" cy="5327640"/>
        </p:xfrm>
        <a:graphic>
          <a:graphicData uri="http://schemas.openxmlformats.org/drawingml/2006/table">
            <a:tbl>
              <a:tblPr/>
              <a:tblGrid>
                <a:gridCol w="2669400"/>
                <a:gridCol w="2389680"/>
                <a:gridCol w="3462120"/>
              </a:tblGrid>
              <a:tr h="93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упные европейские обла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звание еврорегиона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 номер на карте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EB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раны-партнер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ентральная и Восточная Европ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Буг»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(32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елоруссия, Польш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Днепр»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(5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елоруссия, Росс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Слобожанщина»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(51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9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льпийско-Дунайская обла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Нижний Дунай»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(134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лдова, Румы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Верхний Прут»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(136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лдова, Румы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6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упномасштабная трансграничная кооперац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Карпаты»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(14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енгрия, Польша, Румыния, Словакия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3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Черное море»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(15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рмения, Азербайджан, Болгария, Греция, Грузия, Молдова,  Россия, Румыния, Турц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Times New Roman"/>
              </a:rPr>
              <a:t>Еврорегионы с участием России, 2007 г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50920" y="692280"/>
          <a:ext cx="8496360" cy="6352920"/>
        </p:xfrm>
        <a:graphic>
          <a:graphicData uri="http://schemas.openxmlformats.org/drawingml/2006/table">
            <a:tbl>
              <a:tblPr/>
              <a:tblGrid>
                <a:gridCol w="2660400"/>
                <a:gridCol w="2384640"/>
                <a:gridCol w="3451320"/>
              </a:tblGrid>
              <a:tr h="55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упные европейские облас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звание еврорегиона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 номер на карте AEB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раны-партнер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320">
                <a:tc row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еверная Европа и Балтийское мор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uroregio Karelia” (10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инлянд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outh-East Finland-Russia” (11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инлянд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eipsi Trans-boundary Cooperation” (15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сто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uroregio Pskov-Livonia” (16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стония, Латв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uroregion Saule” (19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атвия, Литва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uroregion Baltic” (20(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ания, Литва, Польша, Швец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uroregion kyna-kawa”  (21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льш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uroregion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Š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š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pė” (22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тва, Польш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uroregion Nemunas” (23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елоруссия, Литва, Польш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ентральная и Восточная Европ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uroregion Dnepr” (50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елоруссия, Украи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uroregion Slobozhanschina” (51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краи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упномасштабная трансграничная кооперац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AC- Barents Euro-Arctic Council” (2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орвегия, Финляндия, Швец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uroregion Black Sea” (15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рмения, Азербайджан, Болгария, Греция, Грузия, Молдова,   Румыния, Турция, Украи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Times New Roman"/>
              </a:rPr>
              <a:t>Методы анализа и инструменты  трансграничной кооперации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бследование компаний и организаций на предмет оценки их инновационного потенциала и потенциала трансграничной кооперации (сбор информации, анкетирование, количественные оценки, интегральные показатели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ластерный анализ, проводимый в целях картирования и конструирования трансграничных кластер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артирование, профилирование и планирование новых трансграничных территориальных образова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79280" y="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Times New Roman"/>
              </a:rPr>
              <a:t>Карта существующих и гипотетических еврорегионов с участием России и Украи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7077240" cy="50292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99640" y="5876640"/>
            <a:ext cx="698508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ществующие еврорегио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_____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гипотетические еврорегионы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b7"/>
                </a:solidFill>
                <a:latin typeface="Arial Black"/>
              </a:rPr>
              <a:t>Пояснение к карте существующих и гипотетических еврорегионов с участием России и Украины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жду еврорегионами под №50 и №51 расположен еврорегион «Ярославна» (Сумская, Курская области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иже еврорегиона «Слобожанщина» (№51) с севера на юг расположены гипотетические еврорегионы под условными названиями: «Донбасс», «Азовское море», «Таганрогский залив», «Тамань», «Сочи – Сухуми», цепь российско-кавказских еврорегион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187280" y="1052640"/>
            <a:ext cx="7488360" cy="5256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Times New Roman"/>
              </a:rPr>
              <a:t>Главная страница сайта </a:t>
            </a:r>
            <a:r>
              <a:rPr b="1" lang="en-US" sz="3200" spc="-1" strike="noStrike" u="sng">
                <a:solidFill>
                  <a:srgbClr val="99ff66"/>
                </a:solidFill>
                <a:uFillTx/>
                <a:latin typeface="Times New Roman"/>
                <a:hlinkClick r:id="rId2"/>
              </a:rPr>
              <a:t>Европейской ассоциации приграничных регионов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08720" cy="4307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476360" y="2205000"/>
            <a:ext cx="5256360" cy="39196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822920" y="3497400"/>
            <a:ext cx="4321080" cy="33606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916360" y="5734080"/>
            <a:ext cx="2016000" cy="216000"/>
          </a:xfrm>
          <a:prstGeom prst="ellipse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508360" y="188640"/>
            <a:ext cx="3490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Times New Roman"/>
              </a:rPr>
              <a:t>Европейский инструмент для продвижения приграничной кооперации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4868640"/>
            <a:ext cx="2952720" cy="158436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8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Project start date: May 200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8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Project end date: November 200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8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Duration in months: 31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8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Total costs: 464.469,54 €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8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Total eligible costs: 444.469,54 €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8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Total ERDF funding: 222.234,77 €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Times New Roman"/>
              </a:rPr>
              <a:t>Вебометрическая рейтинговая оценка членов</a:t>
            </a:r>
            <a:r>
              <a:rPr b="1" lang="en-US" sz="3200" spc="-1" strike="noStrike">
                <a:solidFill>
                  <a:srgbClr val="ffffb7"/>
                </a:solidFill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99ff66"/>
                </a:solidFill>
                <a:uFillTx/>
                <a:latin typeface="Times New Roman"/>
                <a:hlinkClick r:id="rId1"/>
              </a:rPr>
              <a:t>AEBR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4072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987640" y="1125360"/>
            <a:ext cx="2951280" cy="1008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фили еврорегионов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uroregion profiles (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www.eurotoolproject.eu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987640" y="2349360"/>
            <a:ext cx="295272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аза данных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RL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адресов членов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EB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2997360"/>
            <a:ext cx="3887640" cy="280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тодология вебометрического ранжирования (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www.webometrics.inf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: поисковые машины –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ogle, Yahoo, LiveSearch, Exalead;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дикаторы –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ze, Visibility, Rich Files, Scholar;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ог-нормирование; аддитивный интегральный показатель;расчет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3068640"/>
            <a:ext cx="4105440" cy="27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дифицированная методология вебометричекого ранжирования: поисковые машины –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ogle, Yahoo, LiveSearch, Yandex;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дикаторы – те же; нормирование на максимальные значения; аддитивный интегральный показатель; расчет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24000" y="6021360"/>
            <a:ext cx="3022560" cy="620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равнение результат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нжировани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80000" y="6022800"/>
            <a:ext cx="3024360" cy="6462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убликация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b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йтингов еврорегион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48" idx="1"/>
            <a:endCxn id="149" idx="0"/>
          </p:cNvCxnSpPr>
          <p:nvPr/>
        </p:nvCxnSpPr>
        <p:spPr>
          <a:xfrm flipH="1">
            <a:off x="2195280" y="2638080"/>
            <a:ext cx="792720" cy="3596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</p:cxnSp>
      <p:cxnSp>
        <p:nvCxnSpPr>
          <p:cNvPr id="154" name=""/>
          <p:cNvCxnSpPr>
            <a:stCxn id="148" idx="3"/>
            <a:endCxn id="150" idx="0"/>
          </p:cNvCxnSpPr>
          <p:nvPr/>
        </p:nvCxnSpPr>
        <p:spPr>
          <a:xfrm>
            <a:off x="5940000" y="2638080"/>
            <a:ext cx="685080" cy="4309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</p:cxnSp>
      <p:cxnSp>
        <p:nvCxnSpPr>
          <p:cNvPr id="155" name=""/>
          <p:cNvCxnSpPr>
            <a:stCxn id="151" idx="3"/>
            <a:endCxn id="152" idx="1"/>
          </p:cNvCxnSpPr>
          <p:nvPr/>
        </p:nvCxnSpPr>
        <p:spPr>
          <a:xfrm>
            <a:off x="5146560" y="6332400"/>
            <a:ext cx="434160" cy="151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</p:cxnSp>
      <p:cxnSp>
        <p:nvCxnSpPr>
          <p:cNvPr id="156" name=""/>
          <p:cNvCxnSpPr>
            <a:stCxn id="147" idx="2"/>
            <a:endCxn id="148" idx="0"/>
          </p:cNvCxnSpPr>
          <p:nvPr/>
        </p:nvCxnSpPr>
        <p:spPr>
          <a:xfrm>
            <a:off x="4463640" y="2133360"/>
            <a:ext cx="1080" cy="21636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</p:cxnSp>
      <p:cxnSp>
        <p:nvCxnSpPr>
          <p:cNvPr id="157" name=""/>
          <p:cNvCxnSpPr/>
          <p:nvPr/>
        </p:nvCxnSpPr>
        <p:spPr>
          <a:xfrm>
            <a:off x="3347640" y="5805360"/>
            <a:ext cx="1080" cy="2167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</p:cxnSp>
      <p:cxnSp>
        <p:nvCxnSpPr>
          <p:cNvPr id="158" name=""/>
          <p:cNvCxnSpPr/>
          <p:nvPr/>
        </p:nvCxnSpPr>
        <p:spPr>
          <a:xfrm>
            <a:off x="4932000" y="5805360"/>
            <a:ext cx="1080" cy="2167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755280" y="620640"/>
            <a:ext cx="8007480" cy="52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налитические процедуры регионального бенчмаркинга и прогнозирования, используемые для мониторинга, сравнительного анализа и принятия управленческих решений в процессе трансграничной коопер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нлайновые порталы и платформы с сильной аналитической составляющ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нформационно-аналитические бюллетени, распространяемые  в бумажном и электронном виде среди участников трансграничной коопер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учно-методологические и проектные семинары, проводимые в рамках картирования и конструирования новых трансграничных территориальных образований и кластер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енчмаркинговые семинары по обмену знаниями и опытом, проводимые в рамках успешно функционирующих трансграничных территориальных образований и кластер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радиционные кластерные совещ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ебометрическая рейтинговая оценка деятельности еврорегионов (полных и неполных членов Европейской ассоциации приграничных регионов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ебометрическая рейтинговая оценка деятельности участников произвольного трансграничного территориального образования, проводимая в рамках определённого класса компаний или организаци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Times New Roman"/>
              </a:rPr>
              <a:t>Краткая историческая справка по еврорегиону «Слобожанщина»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9647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1997 году учеными – регионалистами Харьковского государственного университета А.П. Голиковым и П.А. Черномазом в журнале «Регион: проблемы и перспективы» (№4.-С.52-54) была впервые высказана идея создания первого украинско-российского трансграничного региона – еврорегиона «Слобожанщина». В дальнейшем ими, а также А.М. Кирюхиным, В.М. Московкиным, В.Н. Коваленко и другими исследователями эта идея была обоснована и нашла дальнейшее развит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здание еврорегиона «Слобожанщина» стало одним из важных пунктов Региональной комплексной программы социально-экономического развития Харьковской области до 2010 г., утвержденной 20 августа 1999 г. решением сессии Харьковского областного совета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95280" y="47628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0"/>
            <a:ext cx="8424720" cy="68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Чуть позднее, после подготовительной работы, проведенной исполкомом Совета руководителей пограничных областей Беларуси, России и Украины, 7 ноября 2003 г. были подписаны учредительные документы о создании украинско-российского еврорегиона «Слобожанщина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 2004 по 2007 год еврорегион «Слобожанщина» состоял в Ассоциации европейских приграничных регионов (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ssociation of European Border Regions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) в качестве наблюдателя, а с 2007 года стал полноправным членом этой Ассоциации. В этом же году с целью управления проектами и программами еврорегиона «Слобожанщина» в Харькове была создана некоммерческая организация с этим же названием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результате первыми активность в трансграничном сотрудничестве проявили именно администрации Харьковской и Белгородской областей. Еще 22 марта 2002 г. они обратились к президентам Украины и России с просьбой дать соответствующие поручения правительствам относительно активизации двусторонних консультаций между Министерствами иностранных дел обеих стран, целью которых явилось бы подписание Соглашения об упрощении таможенного и пограничного режимов для обеспечения первоочередных потребностей жителей пограничных районов Харьковской и Белгородской област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Times New Roman"/>
              </a:rPr>
              <a:t>Основные разделы проектируемого сайта еврорегиона «Слобожанщина» (на портале </a:t>
            </a:r>
            <a:r>
              <a:rPr b="1" lang="en-US" sz="3200" spc="-1" strike="noStrike" u="sng">
                <a:solidFill>
                  <a:srgbClr val="99ff66"/>
                </a:solidFill>
                <a:uFillTx/>
                <a:latin typeface="Times New Roman"/>
                <a:hlinkClick r:id="rId1"/>
              </a:rPr>
              <a:t>www.crossborder.org.ua</a:t>
            </a:r>
            <a:r>
              <a:rPr b="1" lang="en-US" sz="3200" spc="-1" strike="noStrike">
                <a:solidFill>
                  <a:srgbClr val="ffffb7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8200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Функциональные разделы сайта: новости, форум, анкетирование,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eb-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аналитика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убликации, программы, проекты и кластерные инициативы. Мероприят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ематические разделы сайта (информация по Харьковской и Белгородской областям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стория развития и программные документы еврорегиона «Слобожанщина» и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EBR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56908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Times New Roman"/>
              </a:rPr>
              <a:t>Тематические разделы проектируемого сайта еврорегиона «Слобожанщина»</a:t>
            </a:r>
            <a:r>
              <a:rPr b="1" lang="ru-RU" sz="3200" spc="-1" strike="noStrike">
                <a:solidFill>
                  <a:srgbClr val="ffffb7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820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едложения о сотрудничеств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новационно-инвестиционный климат и регуляторно-правовая сре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аможенно-тарифная полит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нфраструктура поддержки инноваций и бизне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оизводственно-инновационные профили компа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атенты и торговые мар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едложение и спрос на квалифицированную рабочую сил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8675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Times New Roman"/>
              </a:rPr>
              <a:t>Пояснения к избранным разделам проектируемого сайта еврорегиона «Слобожанщина» 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787320"/>
            <a:ext cx="83516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Публикации по трансграничной коопер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убликации экспертов еврорегиона «Слобожанщина» в области трансграничной кооперации и кластерно - сетевой деятель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Web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-аналитик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ебометрическое ранжирование институциональных участников проектов, программ и кластерных инициатив еврорегиона «Слобожанщина» в разных их группах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ебометрическое ранжирование приграничных и трансграничных регионов Европейской ассоциации приграничных регионов и позиционирование в нем еврорегиона «Слобожанщина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4T12:38:10Z</dcterms:created>
  <dc:creator>БелГУ</dc:creator>
  <dc:description/>
  <dc:language>en-US</dc:language>
  <cp:lastModifiedBy>moskovkin</cp:lastModifiedBy>
  <dcterms:modified xsi:type="dcterms:W3CDTF">2008-03-31T14:48:01Z</dcterms:modified>
  <cp:revision>58</cp:revision>
  <dc:subject/>
  <dc:title>Открытый доступ к научному и гуманитарному знанию</dc:title>
</cp:coreProperties>
</file>