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06AC-40C5-472E-831F-C3AACB5A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801D-7D9D-46E8-8733-F7BF52E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7985-0950-4DBC-A40A-C309A779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2176-A97B-4BFC-950C-3798C436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3616-4B28-4533-A4FE-0846C1E9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59BC-FA91-4F9C-9B56-E24A7C17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72B8-AF8F-42D7-BC8D-506BDF9E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CC1B-2B7C-4940-8C6F-9EC12450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FDCA-CEE2-48F0-883B-6D08586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E515-B256-45D2-A198-4F2E1527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C3AF-04E4-4E0A-8995-B99E3A9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0203-FCEA-4440-8959-89625881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78F2-C06D-4481-90DD-F1F6037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25B5-BEE9-4B9B-AF24-564587D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05E-9D3C-4EED-98FC-964FED5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235-1E4C-4EEB-A9EF-9A6A16DF9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7EC3-8263-4A80-A4D0-98F05559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5E5B-4872-4495-B149-F7281BE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EA4F-4B7B-4FA0-A565-18ABD0B6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0B74-765D-4BB3-973A-14C0A55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8383-8065-4BF2-BC9A-3A7B3D7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9D3B-55D8-439A-A8FC-FBEFD93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54E6-50FA-4457-B1DF-A7BC33D8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C7F4-1412-4A29-83C3-59B18FBB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C68-0914-40B1-9DC7-BC413E6D93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A51-C6FA-4177-97EB-C74DFF9905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5e5ff"/>
                </a:solidFill>
                <a:uFillTx/>
                <a:latin typeface="Garamond"/>
              </a:rPr>
              <a:t>Концепция университетских кластеров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работчик – д.г.н., профессор кафедры мировой экономики БелГУ Московкин В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ВП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-ый внешний партнёр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афедра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-ая кафедра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кафед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(m-1)/2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внешними партнё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n(n-1)/2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кафедрами и внешними партнёрами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n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Общее количество взаимодействий равно 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(m-1)/2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n(n-1)/2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+</a:t>
            </a:r>
            <a:r>
              <a:rPr b="0" lang="en-US" sz="1500" spc="-1" strike="noStrike">
                <a:solidFill>
                  <a:srgbClr val="000514"/>
                </a:solidFill>
                <a:latin typeface="Garamond"/>
              </a:rPr>
              <a:t>mn</a:t>
            </a:r>
            <a:r>
              <a:rPr b="0" lang="ru-RU" sz="1500" spc="-1" strike="noStrike">
                <a:solidFill>
                  <a:srgbClr val="000514"/>
                </a:solidFill>
                <a:latin typeface="Garamond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Схема взаимодействий в межкафедральном кластер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636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акуль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факульте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остальные определения, понятия и кластерная схема взаимодействий аналогичны определениям, понятиям и кластерной схеме взаимодействий кафедрального клас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акультет активно вовлекает в кластерную деятельность все свои кафедры и научные подразделени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жфакуль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группы факульте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остальные определения, понятия и кластерная схема взаимодействий аналогичны определениям, понятиям и кластерной схеме взаимодействий межкафедрального клас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Универси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университета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внутри университета и его внешними партнёрами в сферах основных его компетенций, развивающих взаимосвязи нерыночной и рыночной природы, делающих вклад в инновации, собственную конкурентоспособность и конкурентоспособность своего региона за счёт получения синергии от совместной деятельности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Все остальные понятия, и схема аналогичны понятиям и схеме кластеров кафедрального или факультетского уровня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 algn="just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Примером такого кластера является реализация БелГУ интегрированного проекта, выполняемого в рамках Национального инновационного образовательного проекта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ежуниверситетский кластер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Кластерная инициатива исходит от группы университетов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между избранными университетами и их внешними партнерами в сферах основных их компетенций, развивающих взаимосвязи нерыночной и рыночной природы, делающих вклад в инновации, собственную конкурентоспособность и конкурентоспособность соответствующих территорий за счёт получения синергии от совместной деятельности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Ярким примером такого кластера является деятельность Белорусско – Российско – Украинского приграничного университетского консорциум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федральный класте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Определение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Способ организации согласованных взаимодействий внутри кафедры, между кафедрой и её факультетским и университетским окружением, а также внешними партнёрами в сферах основных её компетенций, развивающих взаимосвязи нерыночной и рыночной природы, с целью получения синергетического эффекта от совместной деятельности (при работе над конкретными интегрированными проекта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афедральные компетен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подготовка специалистов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научные исследования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коммерциализация результатов научных исследований и инновационная деятельность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5e5ff"/>
                </a:solidFill>
                <a:latin typeface="Garamond"/>
              </a:rPr>
              <a:t>Дополнительные понятия кафедрального кластера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Кластерная инициатив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исходит от конкретной выпускающей кафед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Ядро кластер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конкретная выпускающая кафед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Совета кластера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совет, состоящий из руководства кафедры, ведущих её учёных, представителей факультетской и университетской администрации, а также их представителей всех внешних партнёров, участвующих в реализации интегрированных проек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кластерных совещаний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– научно-методологический или проектный семинар, организуемый вышеуказанным советом, на котором планируются перспективные проекты или обсуждается ход реализации текущих проектов, и в котором участвуют все партнёры вовлечённые в совместную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меры интегрированных проек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тегрированный про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проект, выполнение которого требует использование всех трёх кафедральных компетенций и который нацелен на конечный внедренческий результа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8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дготовка специалистов для конкретного предприятия с одновременной разработкой инвестиционного проекта, который позволит создать новые рабочие места для вышеуказанных специалис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8040" indent="-5180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кафедры над созданием мультимедийных учебно-методических комплексов, учебных пособий и обучающих программ, их презентации и согласования с заказчикам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260280"/>
            <a:ext cx="9144000" cy="5473800"/>
            <a:chOff x="0" y="260280"/>
            <a:chExt cx="9144000" cy="54738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6909" r="7578" b="10363"/>
            <a:stretch/>
          </p:blipFill>
          <p:spPr>
            <a:xfrm>
              <a:off x="0" y="260280"/>
              <a:ext cx="9144000" cy="547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" name=""/>
            <p:cNvGrpSpPr/>
            <p:nvPr/>
          </p:nvGrpSpPr>
          <p:grpSpPr>
            <a:xfrm>
              <a:off x="2197440" y="1388880"/>
              <a:ext cx="5496480" cy="3182400"/>
              <a:chOff x="2197440" y="1388880"/>
              <a:chExt cx="5496480" cy="3182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197440" y="1388880"/>
                <a:ext cx="2015640" cy="150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5678640" y="1388880"/>
                <a:ext cx="2015280" cy="16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197440" y="3231360"/>
                <a:ext cx="2198520" cy="133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95400" y="3231360"/>
                <a:ext cx="2198520" cy="133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58936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ВП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 –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i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-ый внешний партнё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Количество взаимодействий кафедры с внешними партнёрами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Количество взаимодействий между внешними партнёрами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(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</a:t>
            </a: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-1)/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514"/>
                </a:solidFill>
                <a:latin typeface="Garamond"/>
              </a:rPr>
              <a:t>Общее количество взаимодействий равно </a:t>
            </a:r>
            <a:r>
              <a:rPr b="0" lang="en-US" sz="1800" spc="-1" strike="noStrike">
                <a:solidFill>
                  <a:srgbClr val="000514"/>
                </a:solidFill>
                <a:latin typeface="Garamond"/>
              </a:rPr>
              <a:t>n(n+1)/2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Схема взаимодействий в кафедральном кластер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жкафедральный класте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ределение: Способ организации согласованных взаимодействий между избранными кафедрами, факультетским и университетским окружением и их внешними партнёрами в сферах основных их компетенций, развивающих взаимосвязи нерыночной и рыночной природы, с целью получения синергетического эффекта от совместной деятельности (при работе над конкретными интегрированными проектам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e5e5ff"/>
                </a:solidFill>
                <a:latin typeface="Garamond"/>
              </a:rPr>
              <a:t>Дополнительные понятия межкафедрально кластера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Кластерная инициатива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исходит от группы кафедр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Ядра кластер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избранные кафед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Совета кластер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совет, состоящий из руководства кафедр, представителей факультетских и университетской администраций, а также представителей внешних партнёров, участвующих в реализации интегрированных проек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Garamond"/>
              </a:rPr>
              <a:t>Аналог кластерных совеща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межкафедральный научно-методологический или проектный семинар, организуемый вышеуказанным советом, на котором планируются перспективные проекты или обсуждаются ход реализации текущих проектов, и в котором участвуют все партнёры вовлечённые в совместную деятельно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римеры интегрированных проек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697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разных кафедр над сложным бизнес планом или инвестиционным проектом совместно с заказчиком (внешним партнёром) при поддержке со стороны факультетского и университетского окруж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овместная работа студентов и преподавателей разных кафедр над проектом создания и сопровождения регионального онлайнового инновационного портала, который вовлекает в свою деятельность поставщиков внешней информации и обладателей внешней экспертиз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54:08Z</dcterms:created>
  <dc:creator>dept</dc:creator>
  <dc:description/>
  <dc:language>en-US</dc:language>
  <cp:lastModifiedBy>dept</cp:lastModifiedBy>
  <dcterms:modified xsi:type="dcterms:W3CDTF">2007-12-20T09:26:49Z</dcterms:modified>
  <cp:revision>13</cp:revision>
  <dc:subject/>
  <dc:title>Миссия кафедры мировой экономики Белгородского государственного университета</dc:title>
</cp:coreProperties>
</file>