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56DB-640D-4943-A0B9-05A3AA8E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C165-291A-4A44-9C8F-9F481E5E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71DF-1E1F-400D-B84D-0512C308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8380-CD07-4967-9FB3-37134FF1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C353-A677-4262-ABC6-ED1C77A8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8689-DD5D-4EAE-9ACD-2735B2FE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CC64-F1B5-44F3-BA8F-5E1AD76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DEB2-8D12-4E6D-BCDB-FEBF107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7C49-617B-4340-BBC5-3C330E3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BD1F-291C-4D83-8FF0-6A687800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292-A90B-4F7D-807C-0A38604C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AF69-B4B7-42CA-A31B-4DB9508F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98D2-2290-42CF-94E4-21F5066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296D-F222-462F-B7DA-F459A147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1811-6A74-4BF6-BBE1-1A11855E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FE6A-6A53-4166-9DBA-0690196A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93F8-E370-4CF1-8611-568F02DC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144E-493B-4F04-81E0-1609D50D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C69A-47E0-49AA-83E5-6D519ECD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4430-D1CE-4855-9B68-D743DE26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9DC3-C8F1-421D-894A-1565F9D3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4194-22FE-4CB0-987C-41013C2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4DC0-B315-44ED-A2F9-30AA2FD5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FE02-9609-43CF-9C1E-37346A85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A50-B99F-473B-9B1F-0990C7AC45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CB3-F8D1-49BD-89EE-FA1E86F103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476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осковкин В.М., Посохова О.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060640"/>
            <a:ext cx="79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тодологический инструментарий для количественной оценки макроэкономического состояния стран и внешнеторговых взаимодействий одной страны с группой стран на примере стран Средиземноморья и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79280" y="620640"/>
          <a:ext cx="8785440" cy="6647040"/>
        </p:xfrm>
        <a:graphic>
          <a:graphicData uri="http://schemas.openxmlformats.org/drawingml/2006/table">
            <a:tbl>
              <a:tblPr/>
              <a:tblGrid>
                <a:gridCol w="1728720"/>
                <a:gridCol w="1368720"/>
                <a:gridCol w="1942920"/>
                <a:gridCol w="1728720"/>
                <a:gridCol w="2016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 Средиземномор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олицы стран Средиземномор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чайшие расстояния от Москвы до столиц стран Средиземноморья, к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ые морские порты стран Средиземномор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стояние от Новороссийска до основных морских портов стран Средиземноморья, к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б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ра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рре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е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фи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ир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гип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9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т-Саи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и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ерусали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ль-Ави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дри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ен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п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ко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масо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в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йр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йр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по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ипо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ь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лет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ллет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окк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саблан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бия  и Черног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гра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мас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жаб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юбля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ни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ни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ни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ка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м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и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с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ва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ре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ли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0" y="11484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Исходные географические данны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Исходные экономические данные</a:t>
            </a:r>
            <a:endParaRPr b="1" lang="en-US" sz="2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504720"/>
          <a:ext cx="8604000" cy="6352920"/>
        </p:xfrm>
        <a:graphic>
          <a:graphicData uri="http://schemas.openxmlformats.org/drawingml/2006/table">
            <a:tbl>
              <a:tblPr/>
              <a:tblGrid>
                <a:gridCol w="2016000"/>
                <a:gridCol w="2496960"/>
                <a:gridCol w="2219400"/>
                <a:gridCol w="18716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 Средиземноморь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П по паритету покупательной способности, млрд. долл. США, 2004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ВП по официальному обменному курс, млрд.  долл. США, 2006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шнеторговый оборот (Т), млн.долл. США, 2004 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б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4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13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, 7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лж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2,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4,32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6, 4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ре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7,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039, 6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гип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6,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7,38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18, 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раи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,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003, 4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37,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25,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625, 1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тал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09, 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52,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111, 4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,2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2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714, 8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в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8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62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7, 69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в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,4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33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7, 0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ь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,22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9, 1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окк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7,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5, 7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бия  и Черног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2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59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4, 48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,4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50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5, 1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лов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,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,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0, 4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ни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,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62(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5, 9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ур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2,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772, 1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31,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153, 9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рва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,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,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1, 0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0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9,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Варианты расчетов с помощью метода наименьших квадратов (МНК)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кратчайшие расстояния от Москвы до столиц стран Средиземноморья, км; ВВП бралось по паритету покупательной способности в млрд. долл. США на 2004 год; внешнеторговый оборот брался  в тыс. долл. США на 2004 год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тоже, что и в варианте 1, ВВП бралось по официальному обменному курсу в млрд. долл. США на 2006 год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расстояния от Новороссийска до основных портов стран Средиземноморья, км; ВВП бралось как и в варианте 1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тоже, что и в варианте 3, ВВП – тоже, что и в варианте 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9600" y="188640"/>
            <a:ext cx="89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четные коэффициенты по гравитационной моде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125360"/>
          <a:ext cx="7490160" cy="4548240"/>
        </p:xfrm>
        <a:graphic>
          <a:graphicData uri="http://schemas.openxmlformats.org/drawingml/2006/table">
            <a:tbl>
              <a:tblPr/>
              <a:tblGrid>
                <a:gridCol w="1783080"/>
                <a:gridCol w="1069920"/>
                <a:gridCol w="1382760"/>
                <a:gridCol w="2184120"/>
                <a:gridCol w="107028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ри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de-DE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4.2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(1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.5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6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(1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3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2105310.0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(1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6890.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6181345.2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(15)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37293.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(15), взв. МН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34.3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4592520" y="14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9280" y="-54000"/>
          <a:ext cx="8496360" cy="57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-54000"/>
                    <a:ext cx="849636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34080" y="5175720"/>
            <a:ext cx="8893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йная корреляционная зависимость между расчетным (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19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и фактическим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Т</a:t>
            </a:r>
            <a:r>
              <a:rPr b="0" lang="ru-RU" sz="19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внешнеторговым оборотом России со странами Арабо-Европейского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земноморья (вариант 3, взв. МНК, без учета Кипра и Италии),тыс. долл. СШ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26920" y="2205000"/>
            <a:ext cx="777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4360" y="333360"/>
          <a:ext cx="8208720" cy="5992920"/>
        </p:xfrm>
        <a:graphic>
          <a:graphicData uri="http://schemas.openxmlformats.org/drawingml/2006/table">
            <a:tbl>
              <a:tblPr/>
              <a:tblGrid>
                <a:gridCol w="1511280"/>
                <a:gridCol w="2520720"/>
                <a:gridCol w="1656000"/>
                <a:gridCol w="2520720"/>
              </a:tblGrid>
              <a:tr h="17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ра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ВП на душу населения по паритету покупательной способности, долл. СШ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200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ран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ВП на душу населения по паритету покупательной способности, долл. СШ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2006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Алб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Маль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8 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Алж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Марок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 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Гре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1 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ербия  и Черног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Егип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 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и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Израи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0 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лов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9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Исп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3 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Туни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 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Итал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7 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Тур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 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Кип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греческая зона 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20300;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турецкая зона 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7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Фран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8 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Лив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Хорват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1 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Лив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 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Рос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9 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2920" y="476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епень открытости экономик, % (2006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1268280"/>
            <a:ext cx="295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ДЕ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вения - 8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ьта - 75,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вия - 69,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УТСАЙДЕР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ипет - 7,3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ссия - 15,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бания - 16,1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Классификация внешнеторгового потенциала стран Средиземноморья и России (2006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1533600" y="2027160"/>
            <a:ext cx="17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33600" y="2027160"/>
            <a:ext cx="17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33600" y="2027160"/>
            <a:ext cx="17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628640"/>
          <a:ext cx="7772400" cy="4826160"/>
        </p:xfrm>
        <a:graphic>
          <a:graphicData uri="http://schemas.openxmlformats.org/drawingml/2006/table">
            <a:tbl>
              <a:tblPr/>
              <a:tblGrid>
                <a:gridCol w="2446200"/>
                <a:gridCol w="2376720"/>
                <a:gridCol w="2949480"/>
              </a:tblGrid>
              <a:tr h="1426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орядок внешнеторговог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оборота, тыс. долл. 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Уровень внешнеторговог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отенци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т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Франция, Италия, Испания, Турция, Ро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Израиль, Алжир, Словения, Греция, Марокко, Тунис, Хорватия, Сирия, Египет, Сербия и Черногория, Ливан, Лив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Албания, Мальта, Ки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53880" y="474840"/>
            <a:ext cx="6997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Классификация экономик </a:t>
            </a:r>
            <a:r>
              <a:rPr b="1" lang="ru-RU" sz="2400" spc="-1" strike="noStrike">
                <a:solidFill>
                  <a:srgbClr val="000514"/>
                </a:solidFill>
                <a:latin typeface="Times New Roman"/>
              </a:rPr>
              <a:t>Всемирного банка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стран Средиземноморья</a:t>
            </a:r>
            <a:r>
              <a:rPr b="1" lang="ru-RU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и России, апрель 2007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700280"/>
          <a:ext cx="8497800" cy="4405320"/>
        </p:xfrm>
        <a:graphic>
          <a:graphicData uri="http://schemas.openxmlformats.org/drawingml/2006/table">
            <a:tbl>
              <a:tblPr/>
              <a:tblGrid>
                <a:gridCol w="3327480"/>
                <a:gridCol w="2262240"/>
                <a:gridCol w="2908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Пороговые значения валового национального дохода на душу населения, долл. СШ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Тип экономики стр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траны Средиземноморья и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Меньше или равно 8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изкодохо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т 876 до 3 465 включит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доходом ниже средн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Албания, Алжир, Египет, Марокко, Сирия, Тунис, Сербия и Черног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От 3 466 до 10 725 включительн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доходом выше средн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Хорватия, Ливан, Ливия, Турция, Ро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Больше или равно 10 7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ысокодоходн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ипр, Франция, Греция, Израиль, Италия, Мальта, Словения, Исп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549360"/>
            <a:ext cx="813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Типизация структуры ВВП по базовым секторам экономики (по данным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actbook-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2005)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700280"/>
            <a:ext cx="7920000" cy="20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доля сельскохозяйственного сектора во всей экономике стран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доля промышленного сектора во всей экономике стран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доля сектора услуг во всей экономике стра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10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789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- Греция, Египет, Израиль, Испания, Италия, Кипр, Ливан, Мальта, Марокко, Сербия и Черногория, Сирия, Словения, Тунис, Турция, Франция, Хорватия, Росс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S&lt;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жир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lt;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Лив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gt; I≈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Алб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6624720" cy="388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987640" y="458136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овень реального роста ВВП в процентах (2005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55280" y="981000"/>
            <a:ext cx="11559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ВП на душу населения по паритету покупательной способности в долл. США (2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543640"/>
            <a:ext cx="87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ALB – Албания, DZA – Алжир, GRC – Греция, EGY – Египет, ISR – Израиль, ESP – Испания, ITA – Италия, - CYP(g) - Кипр (греческая зона), CYP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) -  Кипр (турецкая зона), LBN – Ливан, LBY – Ливия, MLT – Мальта, MAR – Марокко, YUG - Сербия  и Черногория, SYR – Сирия, SVN – Словения, TUN – Тунис, TUR – Турция, FRA – Франция, HRV – Хорватия, RUS – Росс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602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агностическая диаграмма макроэкономического состояния стран Средиземноморья и Росс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5440" y="5083920"/>
            <a:ext cx="747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Уровень реального роста ВВП в процентах (2004)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803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Гравитационная модель внешнеторговых взаимодействий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де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константы (параметры модели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ВП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валовый внутренний продукт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расстояни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Т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внешнеторговый оборо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84360" y="1700280"/>
                <a:ext cx="4392720" cy="18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ВВП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t</cp:lastModifiedBy>
  <dcterms:modified xsi:type="dcterms:W3CDTF">2007-12-20T10:31:16Z</dcterms:modified>
  <cp:revision>6</cp:revision>
  <dc:subject/>
  <dc:title>Заголовок слайда отсутствует</dc:title>
</cp:coreProperties>
</file>