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783BC-1139-4191-A843-248FD7B8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8FE8-3C11-4B94-9267-8FDCC0BC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4FEB-1381-4291-AB24-AECF0DCE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0252-7910-4307-970E-5DFEB718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31C-71DB-4898-A217-9BC61C20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B680-B1A3-4029-B6C9-83A42FF0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17BA-BF34-4E2A-BAA3-4E4F9CB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8679-C0A3-4EAE-BB38-91F165BB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9F3-9315-4F59-92FE-74E7682F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516C-9D8A-413D-940A-0D5C781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1407-4E22-4088-8E56-E8BEF34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8221-2A27-4F67-BFC8-1C21E5AB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660E-5A16-4C41-BB5C-3736F356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E0FB-0EED-4F80-8ABF-4F569690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E52B-4625-4234-9BF2-711BD4D3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7A30-7475-4CE3-9959-CDD2E64F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7406-2721-4F23-892B-83F0AF4C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C6D7-ED25-456F-A440-B86C99C4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9052-F32A-482D-9F6F-CDE82E0A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33BA2-CE48-49A5-9B89-79C7C83C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A873-A34E-4113-AC6F-73F1453C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C91B-0AAB-44C5-ABD4-9A6F23A7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C6A0-D179-4520-A2A2-0C100EF3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1C16-AB37-4292-92FC-CD1FE879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2975-1B8D-4AC4-91EB-177B76FE26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201-0038-4727-941F-A7E5B99E38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Garamond"/>
              </a:rPr>
              <a:t>Миссия кафедры мировой экономики Белгородского государственного университ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чик – д.г.н., профессор кафедры мировой экономики БелГУ Московкин В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уководство кафедры мировой экономики БелГУ берёт на себя обязательства и несёт ответственность за создание условий, необходимых для достижения своих стратегических целей и реализации соответствующих политик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еамбу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Кафедра мировой экономики БелГУ позиционирует себя как ведущая кафедра по данному направлению в Центральной России, опирающаяся в своей деятельности, в рамках концепции «треугольника знаний» и трех университетских компетенций, на интеграцию процессов фундаментальной подготовки специалистов, проведения продвинутых научных исследований, коммерциализации их результатов и инноваций, и использующая для этого новейший методологический инструментарий – систему качества образования, креативный и инновационный менеджмент, кластерный и междисциплинарный подходы, онлайновые инструменты, мировые базы данных и математические методы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иссия кафедры мировой экономики БелГУ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остои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выпуске широкообразованных, фундаментально подготовленных, креативно мыслящих, конкурентоспособных и хорошо адаптированных, к постоянно изменяющимся условиям, специалистов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проведении конкурентоспособных научных исследований по широкому спектру направлений мировой, региональной, инновационной и математической экономики, продвижении их результатов на постсоветский и мировой рынки научных публикаций и интеграции своей деятельности в мировые сети научных исследований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в коммерциализации результатов научных исследований в виде разработки и внедрения различных организационно-экономических и инновационных механизмов, стратегий, политик, программ, проектов и методологических инструментов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Учебно-воспитательные и образовательные стратегические цели и политики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оздание кафедральных условий для гармоничного развития личности будущего специалиста (культурно-просветительская и спортивно-оздоровительная работа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ганизация процесса качественной и фундаментальной подготовки будущих специалистов на основе креативных, инновационных, кластерных и междисциплинарных подходов, с использованием современных информационно-коммуникационных технологий и математических методов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витие кафедральной системы профориентации и набора  студентов, в условиях ожидаемой «демографической ямы» и снижения качественного уровня обучения в средней школе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звитие кафедральной системы повышения квалификации и переподготовки кадров, в условиях постоянной изменчивости и обновления знани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ланирование новых перспективных направлений подготовки специалистов на основе отслеживания тенденций развития научно-технического прогресса и экономики, в условиях глобализации и информационного взры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учно-исследовательские стратегические цели и полит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повышение конкурентоспособности кафедральных научных исследований на основе использования современного методологического инструментария, адекватной эмпирической базы и информационной поддержки научных исследований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открытие онлайнового доступа для мировой научной общественности к результатам конкурентоспособных научных исследований кафедры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интеграция кафедры в международные научные платформы и сет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активное участие кафедры в процессах международной академической мобильност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8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Garamond"/>
              </a:rPr>
              <a:t>повышение привлекательности кафедры для магистерской и аспирантской подготовки граждан из дальнего зарубежья на основе мощной научно-исследовательской базы и англоязычной подготовки;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Цели и политики в области коммерциализации научных исследований и инноваци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8964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активное участие кафедры в процессе научного обеспечения федеральных и региональных стратегий и политик в области международных экономических отношений, внешнеэкономического сотрудничества, трансграничной кооперации, инновационного и регионального развит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активное участие кафедры в конструировании региональных и трансграничных инновационных кластеров, региональной инновационной системы на базе интерактивного процесса взаимного обучения, организованного в рамках функционирования онлайнового инновационного портала Белгородской области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активное участие кафедры в процессе выращивания малого наукоёмкого бизнеса через университетский бизнес-инкубатор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Цели и политики в области коммерциализации научных исследований и инноваций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89647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здание междисциплинарных смешанных студенческо-преподавательских команд для реализации конкретных проектов, включая разработки мультимедийных образовательных и научно-методологических электронных ресурсов, бизнес-планов и др.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ктивное участие кафедры в развитии коммуникационной инфраструкту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оммуникационная инфраструктур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нлайновый инновационный портал Белгородской области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кафедральный сай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международный научно-практический журнал «Проблемы экономики и управления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тоянно-действующий российско-украинский семинар по продвинутым научным исследованиям и инновационным технология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остоянно-действующий научно-методологический семинар «Методология социально-экономических исследований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Ценности кафедры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уден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спирант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фессорско-преподавательский соста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помогательный персонал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ботодатели, научные и социальные партнё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учные школ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временные образовательные и инновационные технолог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мидж кафедры и её открытость внешнему миру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54:08Z</dcterms:created>
  <dc:creator>dept</dc:creator>
  <dc:description/>
  <dc:language>en-US</dc:language>
  <cp:lastModifiedBy>dept</cp:lastModifiedBy>
  <dcterms:modified xsi:type="dcterms:W3CDTF">2007-12-20T14:58:44Z</dcterms:modified>
  <cp:revision>6</cp:revision>
  <dc:subject/>
  <dc:title>Миссия кафедры мировой экономики Белгородского государственного университета</dc:title>
</cp:coreProperties>
</file>