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0D8-426E-4683-A988-D68A56D0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085-DDC2-400E-985A-2206ED77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8D1-5F23-4218-B401-B63ADCEB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EEB-E9A6-4091-ADFB-459B37BB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C211-FBEF-416B-9AF9-84AD3DAE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A94A-EBF3-4366-A502-45E9CE64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D021-67A7-4C63-A037-72FA0384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B278-18B9-4F58-8516-A4BD517C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C15D-B1B5-4FFB-A710-AF23F62A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CD2A-2900-41D9-BB50-3AC1EBC2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C0D1-F19A-4E5D-A5C6-70C0586F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4CB-9073-4956-BB84-BA1B0500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5425-DC22-4D30-A62E-88B3A368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1232-4F15-4437-8316-5201DBF9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C829-9F11-4ABD-A2DB-7BCE06FE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0776-CFF5-4C1B-9AE3-E47FF12A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EF47-33A8-4191-954D-A58A6267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D15-F589-42C7-BA70-1DCF1B43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41F-D84C-45FF-9F4E-36DF1403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6D7-D19C-4161-A602-A84C339B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DFC-5BBB-4F68-B160-FF41A22F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BEB-90A5-4574-98FE-CBA90822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580-18E4-40AD-A7CB-814360A7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398-5C81-4F80-A31A-F93CA528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168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69A3-C378-4343-B076-D3673436309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168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E12C-01BE-4CC0-ADF8-97E9BD2AD51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Методы цифровой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голографической интерференционной микроскопии.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Исследование морфологии эритроцитов крови. </a:t>
            </a:r>
            <a:br>
              <a:rPr sz="4000"/>
            </a:br>
            <a:br>
              <a:rPr sz="3600"/>
            </a:b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Тишко Т.В., Титарь В.П., Тишко Д.Н.</a:t>
            </a:r>
            <a:br>
              <a:rPr sz="3600"/>
            </a:br>
            <a:br>
              <a:rPr sz="3600"/>
            </a:b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Харьковский национальный университет </a:t>
            </a: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им. В.Н. Каразина</a:t>
            </a: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Институт голографии АН ПРЭ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4797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Влияние озонотерапии на форму эритроцитов крови пациента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54446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Изменение морфологии эритроцитов при гемолитической анемии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2736720" cy="2476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84720" y="2852640"/>
            <a:ext cx="2819520" cy="2519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205080" y="2852640"/>
            <a:ext cx="2733840" cy="2514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3225960" cy="2210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1547640" y="404640"/>
            <a:ext cx="2692440" cy="21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32360" y="2924280"/>
            <a:ext cx="3672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Эритроциты артериальной (а)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и венозной (б)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крови крысы.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Эритроциты артериальной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крови крысы после облучения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гамма – радиацией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в дозе 20000 рентген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n vivo (</a:t>
            </a:r>
            <a:r>
              <a:rPr b="0" lang="uk-UA" sz="2000" spc="-1" strike="noStrike">
                <a:solidFill>
                  <a:srgbClr val="ccecff"/>
                </a:solidFill>
                <a:latin typeface="Times New Roman"/>
              </a:rPr>
              <a:t>в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0" lang="uk-UA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uk-UA" sz="2000" spc="-1" strike="noStrike">
                <a:solidFill>
                  <a:srgbClr val="ccecff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n vitro (</a:t>
            </a:r>
            <a:r>
              <a:rPr b="0" lang="uk-UA" sz="2000" spc="-1" strike="noStrike">
                <a:solidFill>
                  <a:srgbClr val="ccecff"/>
                </a:solidFill>
                <a:latin typeface="Times New Roman"/>
              </a:rPr>
              <a:t>г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0" lang="uk-UA" sz="20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564000" y="18900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2133720" cy="3744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2411280" y="2924280"/>
            <a:ext cx="1944720" cy="3744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9280" y="2205000"/>
            <a:ext cx="5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2276640"/>
            <a:ext cx="50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9280" y="6165720"/>
            <a:ext cx="5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11280" y="6165720"/>
            <a:ext cx="5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4038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48360" cy="532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4360" y="7029360"/>
            <a:ext cx="777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805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eaeaea"/>
                </a:solidFill>
                <a:latin typeface="Times New Roman"/>
              </a:rPr>
              <a:t>Внешний вид цифрового голографического интерференционного микроскоп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Интерферограммы эритроцитов крови человека и восстановленные по ним трехмерные изображен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0516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5760" y="403200"/>
            <a:ext cx="8226360" cy="5562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77200" y="621504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Фрагмент нативного мазка крови здорового челове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5760" y="500040"/>
            <a:ext cx="8226360" cy="5367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37560" y="614376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Фрагмент нативного мазка крови здорового челове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Коэффициент сферичности эритроцит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12920" y="5229360"/>
                <a:ext cx="1166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ц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122560" y="5203800"/>
                <a:ext cx="6001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125800" y="5877000"/>
                <a:ext cx="598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2773440" y="5300640"/>
            <a:ext cx="525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eaeaea"/>
                </a:solidFill>
                <a:latin typeface="Arial"/>
              </a:rPr>
              <a:t>- </a:t>
            </a:r>
            <a:r>
              <a:rPr b="1" lang="en-US" sz="2800" spc="-1" strike="noStrike" baseline="-25000">
                <a:solidFill>
                  <a:srgbClr val="eaeaea"/>
                </a:solidFill>
                <a:latin typeface="Times New Roman"/>
              </a:rPr>
              <a:t>толщина эритроцита в его центре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5950080"/>
            <a:ext cx="56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eaeaea"/>
                </a:solidFill>
                <a:latin typeface="Arial"/>
              </a:rPr>
              <a:t>- </a:t>
            </a:r>
            <a:r>
              <a:rPr b="1" lang="en-US" sz="2800" spc="-1" strike="noStrike" baseline="-25000">
                <a:solidFill>
                  <a:srgbClr val="eaeaea"/>
                </a:solidFill>
                <a:latin typeface="Times New Roman"/>
              </a:rPr>
              <a:t>толщина эритроцита на половине его радиу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248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306828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imes New Roman"/>
              </a:rPr>
              <a:t>Нормальный эритроцит крови человека в виде двояковогнутого диска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imes New Roman"/>
              </a:rPr>
              <a:t>Патологические формы эритроцитов крови человека. Плоский дискоцит и сфероцит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4032360" cy="2952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52360" y="3500280"/>
            <a:ext cx="864252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5300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Фрагменты нативных мазков крови здорового человека и пациента с кавернозно-папиллярной гемангиомой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85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5444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Интерферограмма фрагмента мазка крови, полученная методом голографического вычитания и восстановленное по ней трехмерное изображени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6483600" cy="4565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2360" y="549360"/>
            <a:ext cx="19432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03:33Z</dcterms:created>
  <dc:creator>И.Ф. Крузенштрн</dc:creator>
  <dc:description/>
  <dc:language>en-US</dc:language>
  <cp:lastModifiedBy>Дима</cp:lastModifiedBy>
  <dcterms:modified xsi:type="dcterms:W3CDTF">2007-03-28T14:53:07Z</dcterms:modified>
  <cp:revision>23</cp:revision>
  <dc:subject/>
  <dc:title>Application of the digital holographic microscope for investigation of human red blood cells    T. V. Tishko, V. P. Titar, D. N. Tishko  V. N. Karazin Kharkov National University</dc:title>
</cp:coreProperties>
</file>