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676-F884-424D-A0C0-3AA96F91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B14-BE3F-450B-A118-5E4DA515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445-8F91-47FB-821D-46D96067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5A0-DBF6-449F-84C5-C7BF43F0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40A-C5B7-4BDA-83E9-8ECD2475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EA7-C3FD-46F2-89F0-EBCBF21B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46A-9849-48DF-9E41-514FE053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E4E-5C70-408B-A0A5-FAC14562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8A9-0D30-4BE5-A990-51C62B39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678-A583-48CB-9AC7-CAD1A98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F04-87AB-4826-8ED4-B4E5965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E58-88DC-492D-81DA-9120497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1710-5E0C-49EE-9E17-AA1C7303E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42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44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203040" y="1559520"/>
            <a:ext cx="894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Стратегія розвитку промисловості в умовах С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3188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тенціал розвитку внутрішнього ринку, млрд. г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304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306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18" name=""/>
          <p:cNvGraphicFramePr/>
          <p:nvPr/>
        </p:nvGraphicFramePr>
        <p:xfrm>
          <a:off x="179280" y="1265400"/>
          <a:ext cx="8805960" cy="4736880"/>
        </p:xfrm>
        <a:graphic>
          <a:graphicData uri="http://schemas.openxmlformats.org/drawingml/2006/table">
            <a:tbl>
              <a:tblPr/>
              <a:tblGrid>
                <a:gridCol w="3640320"/>
                <a:gridCol w="1071360"/>
                <a:gridCol w="801720"/>
                <a:gridCol w="920880"/>
                <a:gridCol w="1147680"/>
                <a:gridCol w="1224000"/>
              </a:tblGrid>
              <a:tr h="482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ід нор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ную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 9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42 85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а доходів населення у ВН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и населення, в т.ч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 09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5 7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157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ння продуктів харч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12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0720" indent="-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одовольчі това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78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85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75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 7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ощадж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57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57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а промисловості у ВН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ад промисловості у ВН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 44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и промислового вироб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14 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0"/>
            <a:ext cx="789768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інка загальних макропоказників розвитку промисловості до 2010 року, млрд. г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321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323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35" name=""/>
          <p:cNvGraphicFramePr/>
          <p:nvPr/>
        </p:nvGraphicFramePr>
        <p:xfrm>
          <a:off x="192240" y="1109520"/>
          <a:ext cx="8692920" cy="5359680"/>
        </p:xfrm>
        <a:graphic>
          <a:graphicData uri="http://schemas.openxmlformats.org/drawingml/2006/table">
            <a:tbl>
              <a:tblPr/>
              <a:tblGrid>
                <a:gridCol w="3903480"/>
                <a:gridCol w="777960"/>
                <a:gridCol w="803160"/>
                <a:gridCol w="801720"/>
                <a:gridCol w="801720"/>
                <a:gridCol w="803160"/>
                <a:gridCol w="8017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и зрост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вироб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7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2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5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остання млрд. в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бсягів інвестування від приро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а в інвестиціях всь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Експорту від обсягів вироб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и експор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абельність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 гр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йнято у промисловості, млн. чо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д зарплати річ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зарплати в обсягах вироб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іток на 1 працюючого, тис. гр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0" y="587520"/>
          <a:ext cx="8852040" cy="62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87520"/>
                    <a:ext cx="8852040" cy="62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8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339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341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354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356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68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9930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гальна схема інституціональних перетворень у промислов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372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374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"/>
          <p:cNvSpPr/>
          <p:nvPr/>
        </p:nvSpPr>
        <p:spPr>
          <a:xfrm>
            <a:off x="1573200" y="2214720"/>
            <a:ext cx="5359320" cy="4221000"/>
          </a:xfrm>
          <a:prstGeom prst="ellipse">
            <a:avLst/>
          </a:prstGeom>
          <a:solidFill>
            <a:srgbClr val="86f2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653000" y="3155760"/>
            <a:ext cx="1076400" cy="14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76440" y="3359160"/>
            <a:ext cx="187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е п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ислов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1520" y="2890800"/>
            <a:ext cx="2041560" cy="974880"/>
          </a:xfrm>
          <a:prstGeom prst="triangle">
            <a:avLst>
              <a:gd name="adj" fmla="val 50000"/>
            </a:avLst>
          </a:prstGeom>
          <a:solidFill>
            <a:srgbClr val="9fe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61160" y="4067280"/>
            <a:ext cx="1914480" cy="2635200"/>
          </a:xfrm>
          <a:prstGeom prst="ellipse">
            <a:avLst/>
          </a:prstGeom>
          <a:solidFill>
            <a:srgbClr val="ffb3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21360" y="4616280"/>
            <a:ext cx="185256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Інфраструктурний рино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Фондо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Фінан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овари і по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27360" y="387972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4520" y="4270320"/>
            <a:ext cx="1462320" cy="233676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70080" y="5100480"/>
            <a:ext cx="1431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сурсний ри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549520" y="5119560"/>
            <a:ext cx="449280" cy="1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533320" y="55227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43560" y="2751120"/>
            <a:ext cx="1492200" cy="744480"/>
          </a:xfrm>
          <a:prstGeom prst="triangle">
            <a:avLst>
              <a:gd name="adj" fmla="val 50000"/>
            </a:avLst>
          </a:prstGeom>
          <a:solidFill>
            <a:srgbClr val="fefece"/>
          </a:solidFill>
          <a:ln w="9360">
            <a:solidFill>
              <a:srgbClr val="000000"/>
            </a:solidFill>
            <a:miter/>
          </a:ln>
          <a:effectLst>
            <a:outerShdw dist="313602" dir="128463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2240" y="2897280"/>
            <a:ext cx="14540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Інш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іністер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і відом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529240" y="5021280"/>
            <a:ext cx="4953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346040" y="2682720"/>
            <a:ext cx="2716200" cy="547920"/>
            <a:chOff x="1346040" y="2682720"/>
            <a:chExt cx="2716200" cy="547920"/>
          </a:xfrm>
        </p:grpSpPr>
        <p:sp>
          <p:nvSpPr>
            <p:cNvPr id="401" name=""/>
            <p:cNvSpPr/>
            <p:nvPr/>
          </p:nvSpPr>
          <p:spPr>
            <a:xfrm>
              <a:off x="1346040" y="2682720"/>
              <a:ext cx="1810080" cy="547920"/>
            </a:xfrm>
            <a:prstGeom prst="rect">
              <a:avLst/>
            </a:prstGeom>
            <a:solidFill>
              <a:srgbClr val="ffe7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ауково-інформаційне забезпече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74840" y="2960640"/>
              <a:ext cx="88740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339920" y="3822840"/>
            <a:ext cx="2179440" cy="567720"/>
            <a:chOff x="1339920" y="3822840"/>
            <a:chExt cx="2179440" cy="567720"/>
          </a:xfrm>
        </p:grpSpPr>
        <p:sp>
          <p:nvSpPr>
            <p:cNvPr id="404" name=""/>
            <p:cNvSpPr/>
            <p:nvPr/>
          </p:nvSpPr>
          <p:spPr>
            <a:xfrm>
              <a:off x="1339920" y="3959280"/>
              <a:ext cx="1681200" cy="431280"/>
            </a:xfrm>
            <a:prstGeom prst="rect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Громадські організац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24360" y="3822840"/>
              <a:ext cx="495000" cy="29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146240" y="3346560"/>
            <a:ext cx="5367240" cy="3246480"/>
            <a:chOff x="1146240" y="3346560"/>
            <a:chExt cx="5367240" cy="3246480"/>
          </a:xfrm>
        </p:grpSpPr>
        <p:sp>
          <p:nvSpPr>
            <p:cNvPr id="407" name=""/>
            <p:cNvSpPr/>
            <p:nvPr/>
          </p:nvSpPr>
          <p:spPr>
            <a:xfrm>
              <a:off x="2152800" y="6119640"/>
              <a:ext cx="4360680" cy="473400"/>
            </a:xfrm>
            <a:prstGeom prst="rect">
              <a:avLst/>
            </a:prstGeom>
            <a:solidFill>
              <a:srgbClr val="faff9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18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гіо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82920" y="5808600"/>
              <a:ext cx="0" cy="31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163160" y="3346560"/>
              <a:ext cx="26924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46240" y="3359160"/>
              <a:ext cx="0" cy="3043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46240" y="6416640"/>
              <a:ext cx="1011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1544760" y="717480"/>
            <a:ext cx="5486400" cy="1893960"/>
          </a:xfrm>
          <a:prstGeom prst="ellipse">
            <a:avLst/>
          </a:prstGeom>
          <a:solidFill>
            <a:srgbClr val="e1ffe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60480" y="1041480"/>
            <a:ext cx="4591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51200" y="1625760"/>
            <a:ext cx="2933640" cy="58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ищі органи державної влади і управлін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78320" y="2224080"/>
            <a:ext cx="0" cy="681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192720" y="1891800"/>
            <a:ext cx="0" cy="88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60720" y="1892160"/>
            <a:ext cx="44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873080" y="1004760"/>
            <a:ext cx="481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ве поле політичної та соціально-економічної сф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932280" y="3855960"/>
            <a:ext cx="1185840" cy="1150920"/>
            <a:chOff x="3932280" y="3855960"/>
            <a:chExt cx="1185840" cy="1150920"/>
          </a:xfrm>
        </p:grpSpPr>
        <p:sp>
          <p:nvSpPr>
            <p:cNvPr id="420" name=""/>
            <p:cNvSpPr/>
            <p:nvPr/>
          </p:nvSpPr>
          <p:spPr>
            <a:xfrm>
              <a:off x="3932280" y="3855960"/>
              <a:ext cx="0" cy="11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49800" y="3882960"/>
              <a:ext cx="0" cy="1112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19440" y="3894120"/>
              <a:ext cx="0" cy="1112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29040" y="3884760"/>
              <a:ext cx="0" cy="1112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18120" y="3867120"/>
              <a:ext cx="0" cy="11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355760" y="3706920"/>
            <a:ext cx="6157800" cy="1507680"/>
            <a:chOff x="1355760" y="3706920"/>
            <a:chExt cx="6157800" cy="1507680"/>
          </a:xfrm>
        </p:grpSpPr>
        <p:grpSp>
          <p:nvGrpSpPr>
            <p:cNvPr id="426" name=""/>
            <p:cNvGrpSpPr/>
            <p:nvPr/>
          </p:nvGrpSpPr>
          <p:grpSpPr>
            <a:xfrm>
              <a:off x="5234040" y="3706920"/>
              <a:ext cx="2279520" cy="1248840"/>
              <a:chOff x="5234040" y="3706920"/>
              <a:chExt cx="2279520" cy="1248840"/>
            </a:xfrm>
          </p:grpSpPr>
          <p:sp>
            <p:nvSpPr>
              <p:cNvPr id="427" name=""/>
              <p:cNvSpPr/>
              <p:nvPr/>
            </p:nvSpPr>
            <p:spPr>
              <a:xfrm flipV="1">
                <a:off x="5234040" y="3719520"/>
                <a:ext cx="11588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10160" y="3706920"/>
                <a:ext cx="106560" cy="60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70560" y="431316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Зовнішні ринк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1355760" y="4572000"/>
              <a:ext cx="115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Зовнішні рин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454120" y="3855960"/>
              <a:ext cx="1067040" cy="8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690560" y="3395520"/>
            <a:ext cx="17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ове правове по-ле промислов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14600" y="3502080"/>
            <a:ext cx="1917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Структура ліній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галузе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81480" y="3497400"/>
            <a:ext cx="20397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Структура матрич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функціонально-орієнтов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684600" y="3398760"/>
            <a:ext cx="4879800" cy="1600200"/>
            <a:chOff x="3684600" y="3398760"/>
            <a:chExt cx="4879800" cy="1600200"/>
          </a:xfrm>
        </p:grpSpPr>
        <p:sp>
          <p:nvSpPr>
            <p:cNvPr id="436" name=""/>
            <p:cNvSpPr/>
            <p:nvPr/>
          </p:nvSpPr>
          <p:spPr>
            <a:xfrm flipH="1">
              <a:off x="5486040" y="4414680"/>
              <a:ext cx="85572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684600" y="3398760"/>
              <a:ext cx="4879800" cy="1600200"/>
              <a:chOff x="3684600" y="3398760"/>
              <a:chExt cx="4879800" cy="1600200"/>
            </a:xfrm>
          </p:grpSpPr>
          <p:sp>
            <p:nvSpPr>
              <p:cNvPr id="438" name=""/>
              <p:cNvSpPr/>
              <p:nvPr/>
            </p:nvSpPr>
            <p:spPr>
              <a:xfrm>
                <a:off x="3794040" y="4118040"/>
                <a:ext cx="647640" cy="392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387680" y="4116240"/>
                <a:ext cx="648000" cy="392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000760" y="4125960"/>
                <a:ext cx="644400" cy="392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094280" y="4521240"/>
                <a:ext cx="0" cy="473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87920" y="4519440"/>
                <a:ext cx="0" cy="45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283360" y="4495680"/>
                <a:ext cx="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106880" y="3913200"/>
                <a:ext cx="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02320" y="3873240"/>
                <a:ext cx="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13240" y="3884400"/>
                <a:ext cx="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84600" y="4608360"/>
                <a:ext cx="2112840" cy="182520"/>
              </a:xfrm>
              <a:prstGeom prst="rect">
                <a:avLst/>
              </a:prstGeom>
              <a:solidFill>
                <a:srgbClr val="86f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ФПГ, ТНК, Холдинг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345440" y="3398760"/>
                <a:ext cx="1218960" cy="824040"/>
              </a:xfrm>
              <a:prstGeom prst="rect">
                <a:avLst/>
              </a:prstGeom>
              <a:solidFill>
                <a:srgbClr val="f8ff6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"/>
                  </a:rPr>
                  <a:t>Фінансово-кредитна систе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5425920" y="3779640"/>
                <a:ext cx="1905120" cy="48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3736800" y="2917800"/>
            <a:ext cx="1262160" cy="588960"/>
          </a:xfrm>
          <a:prstGeom prst="triangle">
            <a:avLst>
              <a:gd name="adj" fmla="val 50000"/>
            </a:avLst>
          </a:prstGeom>
          <a:solidFill>
            <a:srgbClr val="9f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06920" y="3090960"/>
            <a:ext cx="134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і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полі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29040" y="4960800"/>
            <a:ext cx="2482920" cy="9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мислов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робнич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'є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013200" y="4960800"/>
            <a:ext cx="2530440" cy="974520"/>
            <a:chOff x="3013200" y="4960800"/>
            <a:chExt cx="2530440" cy="974520"/>
          </a:xfrm>
        </p:grpSpPr>
        <p:sp>
          <p:nvSpPr>
            <p:cNvPr id="454" name=""/>
            <p:cNvSpPr/>
            <p:nvPr/>
          </p:nvSpPr>
          <p:spPr>
            <a:xfrm>
              <a:off x="3013200" y="4960800"/>
              <a:ext cx="384120" cy="9745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ові сфе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59520" y="4960800"/>
              <a:ext cx="384120" cy="9745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ові сфе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H="1">
            <a:off x="5529240" y="552276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-0.00174 0.09352 E">
                                      <p:cBhvr>
                                        <p:cTn id="126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0.00156 0.07107 E">
                                      <p:cBhvr>
                                        <p:cTn id="12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f95"/>
                                      </p:to>
                                    </p:animClr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ff95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0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 стратегія розвитку промисло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459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461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212760" y="806400"/>
            <a:ext cx="8748720" cy="59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ерших два 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безпечення населення продоволь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вестування в розвиток сільгоспмашинобудування (розробка і освоєння виробництва нової високопродуктивної конкурентноспроможної техніки, реконструкція і реструктуризація підприємст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вестування в розвиток хімічної промисловості (виробництво добри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ворення державної компанії з продажу селянам “ГАРАНТОВАНОГО УРОЖАЮ” на рівні 50ц\га з рентабельністю не менше 50%. Компанія продає в кредит селянам: нові агротехнології, техніку для їх реалізації, добрива, пальне та інше необхідне для отримання гарантованого урожаю (виробництва іншої продукції: м'яса, молока, яєць). За сезон селяни спроможні повернути кред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безпечення населення промисловими това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вестування в розвиток легкої промисловості (реконструкція і реструктуризація підприємст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вестування в розвиток виробництва ТНП (розробка і освоєння виробництва нової конкурентноспроможної техніки, реконструкція і реструктуризація підприємст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ступні ро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искорений розвиток інших галузей (по окремим пріоритетам) із забезпеченням структурних змін в напряму збільшення наукоємної продукц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напрями реформування промисло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476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478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163440" y="1403280"/>
            <a:ext cx="882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7960" y="1265400"/>
            <a:ext cx="86932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досконалення системи управління галузз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иток інституційного складу промислов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еструктуризація підприємст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иток системи прискореного інноваційного розвитку промислов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досконалення ринкової інфраструкту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ворення прийнятних макроекономічних умов діяльності промислового комплек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иток людського потенціалу в промислов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ліпшення нормативно-правового забезпечення функціонування і розвитку промисло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ункціонально-орієнтована структура управл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494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496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6173640" y="3367080"/>
            <a:ext cx="1800" cy="317196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43720" y="3367080"/>
            <a:ext cx="1440" cy="316872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26040" y="3367080"/>
            <a:ext cx="0" cy="317016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95760" y="3355920"/>
            <a:ext cx="1800" cy="316872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78440" y="3355920"/>
            <a:ext cx="0" cy="317016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38440" y="3367080"/>
            <a:ext cx="0" cy="317016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84400" y="3367080"/>
            <a:ext cx="0" cy="317016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97240" y="3379680"/>
            <a:ext cx="0" cy="317052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3483000"/>
            <a:ext cx="5344920" cy="3873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54120" y="4062240"/>
            <a:ext cx="5357880" cy="3873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0800000">
            <a:off x="2231640" y="2150640"/>
            <a:ext cx="336600" cy="12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de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 vert="eaVer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мислова політика і ЦК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79600" y="898560"/>
            <a:ext cx="884160" cy="258840"/>
          </a:xfrm>
          <a:prstGeom prst="rect">
            <a:avLst/>
          </a:prstGeom>
          <a:solidFill>
            <a:srgbClr val="d5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Мініс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59280" y="1332000"/>
            <a:ext cx="2366640" cy="392040"/>
          </a:xfrm>
          <a:prstGeom prst="rect">
            <a:avLst/>
          </a:prstGeom>
          <a:solidFill>
            <a:srgbClr val="e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ший заступник Міністра з питань розвитку промислов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79520" y="3193920"/>
            <a:ext cx="334800" cy="3348000"/>
          </a:xfrm>
          <a:prstGeom prst="rect">
            <a:avLst/>
          </a:prstGeom>
          <a:solidFill>
            <a:srgbClr val="eb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ступники  Міністра по комплексам галу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1101240" y="3471840"/>
            <a:ext cx="335160" cy="107640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партамен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0800000">
            <a:off x="1095480" y="5283000"/>
            <a:ext cx="366480" cy="126180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парта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05280" y="3527280"/>
            <a:ext cx="338040" cy="2667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28760" y="3538440"/>
            <a:ext cx="397080" cy="2667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93960" y="3538440"/>
            <a:ext cx="385920" cy="2667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55920" y="3538440"/>
            <a:ext cx="385920" cy="26676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383000" y="3527280"/>
            <a:ext cx="385920" cy="26856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21200" y="3538440"/>
            <a:ext cx="385920" cy="2667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46800" y="3538440"/>
            <a:ext cx="387360" cy="2667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86440" y="3538440"/>
            <a:ext cx="385920" cy="2667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437160" y="3538440"/>
            <a:ext cx="400320" cy="2685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11760" y="4105440"/>
            <a:ext cx="338040" cy="26820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33440" y="4118040"/>
            <a:ext cx="417600" cy="2667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98640" y="4118040"/>
            <a:ext cx="389160" cy="2667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63840" y="4118040"/>
            <a:ext cx="382680" cy="26676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389480" y="4105440"/>
            <a:ext cx="403200" cy="26964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925880" y="4118040"/>
            <a:ext cx="389160" cy="2667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454720" y="4118040"/>
            <a:ext cx="384120" cy="2667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91120" y="4118040"/>
            <a:ext cx="389160" cy="2667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443640" y="4118040"/>
            <a:ext cx="399960" cy="26820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17640" y="3932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39322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14640" y="3932280"/>
            <a:ext cx="6660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0800000">
            <a:off x="2803680" y="2150640"/>
            <a:ext cx="336240" cy="12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 vert="eaVer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уково-техніч та інноваці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0800000">
            <a:off x="3357720" y="2150640"/>
            <a:ext cx="336240" cy="12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ff6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 vert="eaVer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вестиційна полі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3898440" y="2139480"/>
            <a:ext cx="336600" cy="12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de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 vert="eaVer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Формування ринкі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10800000">
            <a:off x="4416120" y="2139480"/>
            <a:ext cx="338040" cy="123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ff6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 vert="eaVer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Управл державною власніст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4947840" y="2150640"/>
            <a:ext cx="336600" cy="12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de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 vert="eaVer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гіональна  полі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0800000">
            <a:off x="5465520" y="2150640"/>
            <a:ext cx="336600" cy="12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de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 vert="eaVer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-правове забезпеч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994360" y="2151000"/>
            <a:ext cx="336600" cy="12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 vert="eaVert" rot="10800000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інансово-еко-номічне забез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24240" y="2085840"/>
            <a:ext cx="3727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22440" y="2079720"/>
            <a:ext cx="18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70520" y="2068560"/>
            <a:ext cx="14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532320" y="2079720"/>
            <a:ext cx="14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83160" y="2068560"/>
            <a:ext cx="14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108400" y="2079720"/>
            <a:ext cx="18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22840" y="208116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48440" y="2079720"/>
            <a:ext cx="14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984400" y="207972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2280" y="6075360"/>
            <a:ext cx="5322960" cy="388800"/>
          </a:xfrm>
          <a:prstGeom prst="rect">
            <a:avLst/>
          </a:prstGeom>
          <a:solidFill>
            <a:srgbClr val="ffff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13200" y="6119640"/>
            <a:ext cx="338040" cy="2685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2920" y="6130800"/>
            <a:ext cx="385920" cy="2685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03680" y="6130800"/>
            <a:ext cx="385560" cy="2685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63840" y="6130800"/>
            <a:ext cx="387360" cy="26856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90920" y="6119640"/>
            <a:ext cx="387360" cy="26856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929120" y="6130800"/>
            <a:ext cx="385920" cy="2685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57960" y="6130800"/>
            <a:ext cx="385560" cy="2685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92920" y="6130800"/>
            <a:ext cx="388800" cy="2685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445080" y="6130800"/>
            <a:ext cx="400320" cy="2685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41320" y="5479920"/>
            <a:ext cx="6696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41320" y="5688000"/>
            <a:ext cx="6696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92240" y="590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58920" y="5896080"/>
            <a:ext cx="66600" cy="65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14400" y="5896080"/>
            <a:ext cx="6696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81360" y="1165320"/>
            <a:ext cx="10461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4187880" y="1746360"/>
            <a:ext cx="9360" cy="35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79480" y="393696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0800" y="581652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73120" y="3686040"/>
            <a:ext cx="8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61960" y="4233960"/>
            <a:ext cx="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12080" y="925560"/>
            <a:ext cx="1965240" cy="822240"/>
          </a:xfrm>
          <a:prstGeom prst="rect">
            <a:avLst/>
          </a:prstGeom>
          <a:solidFill>
            <a:srgbClr val="eb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літика, стратегія, вищі органи влади, вищий управлінський персо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1476360" y="6256440"/>
            <a:ext cx="13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2920" y="1297080"/>
            <a:ext cx="2736720" cy="452520"/>
          </a:xfrm>
          <a:prstGeom prst="rect">
            <a:avLst/>
          </a:prstGeom>
          <a:solidFill>
            <a:srgbClr val="e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ший заступник Міністра з пи-тань галузей промисловості та О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620360" y="1152360"/>
            <a:ext cx="114012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46200" y="1706400"/>
            <a:ext cx="0" cy="14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16760" y="2066760"/>
            <a:ext cx="1968480" cy="72900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c1e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ктичні і оперативні завдання та д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16040" y="5398920"/>
            <a:ext cx="5335560" cy="3873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49560" y="5442120"/>
            <a:ext cx="336600" cy="26820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47840" y="5454720"/>
            <a:ext cx="385920" cy="26820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38600" y="5454720"/>
            <a:ext cx="385560" cy="26820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00560" y="5454720"/>
            <a:ext cx="385560" cy="26820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427640" y="5442120"/>
            <a:ext cx="385560" cy="26820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64040" y="5454720"/>
            <a:ext cx="387360" cy="26820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94320" y="5454720"/>
            <a:ext cx="384120" cy="26820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29280" y="5454720"/>
            <a:ext cx="387360" cy="26820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481800" y="5454720"/>
            <a:ext cx="398520" cy="26820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88960" y="558000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77880" y="4670280"/>
            <a:ext cx="5357880" cy="3873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35520" y="4713120"/>
            <a:ext cx="338040" cy="2685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257560" y="4724280"/>
            <a:ext cx="417240" cy="2685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822400" y="4724280"/>
            <a:ext cx="389160" cy="2685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387600" y="4724280"/>
            <a:ext cx="382680" cy="26856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413240" y="4713120"/>
            <a:ext cx="401760" cy="27000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950000" y="4724280"/>
            <a:ext cx="388800" cy="2685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78480" y="4724280"/>
            <a:ext cx="384120" cy="2685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014880" y="4724280"/>
            <a:ext cx="389160" cy="2685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67400" y="4724280"/>
            <a:ext cx="399960" cy="27000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68320" y="4853160"/>
            <a:ext cx="71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28720" y="6513480"/>
            <a:ext cx="1347840" cy="252360"/>
          </a:xfrm>
          <a:prstGeom prst="rect">
            <a:avLst/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ві функ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00520" y="6513480"/>
            <a:ext cx="1598760" cy="252360"/>
          </a:xfrm>
          <a:prstGeom prst="rect">
            <a:avLst/>
          </a:prstGeom>
          <a:solidFill>
            <a:srgbClr val="99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диційні функ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33880" y="6513480"/>
            <a:ext cx="1347480" cy="25236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новлені функ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977160" y="2951280"/>
            <a:ext cx="2087640" cy="3851280"/>
          </a:xfrm>
          <a:prstGeom prst="rect">
            <a:avLst/>
          </a:prstGeom>
          <a:solidFill>
            <a:srgbClr val="ffd7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Основні функції галузевих підрозділ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1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- Формування і реалізація державної промислової політики і ЦКП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2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- Науково-технічна та інноваційна полі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3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- Управління інвестиційною діяльніст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4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- Формування внутрішнього і зовнішнього ринкі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5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- Управління державною власніст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6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– Регіональна промислова політ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7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– Нормативно-правове забезпечен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8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– Фінансово-економічн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9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 - Управління діяльністю підгалузі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наукового забезпечення діяльності Мініст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616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618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"/>
          <p:cNvSpPr/>
          <p:nvPr/>
        </p:nvSpPr>
        <p:spPr>
          <a:xfrm>
            <a:off x="195120" y="1500120"/>
            <a:ext cx="1733760" cy="750960"/>
          </a:xfrm>
          <a:prstGeom prst="rect">
            <a:avLst/>
          </a:prstGeom>
          <a:gradFill rotWithShape="0">
            <a:gsLst>
              <a:gs pos="0">
                <a:srgbClr val="e1ffff"/>
              </a:gs>
              <a:gs pos="100000">
                <a:srgbClr val="ffffc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ініс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82520" y="2638440"/>
            <a:ext cx="1733760" cy="1268280"/>
          </a:xfrm>
          <a:prstGeom prst="rect">
            <a:avLst/>
          </a:prstGeom>
          <a:gradFill rotWithShape="0">
            <a:gsLst>
              <a:gs pos="0">
                <a:srgbClr val="ffffc5"/>
              </a:gs>
              <a:gs pos="100000">
                <a:srgbClr val="ffb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тупники Мініс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5120" y="4746600"/>
            <a:ext cx="1733760" cy="750960"/>
          </a:xfrm>
          <a:prstGeom prst="rect">
            <a:avLst/>
          </a:prstGeom>
          <a:gradFill rotWithShape="0">
            <a:gsLst>
              <a:gs pos="0">
                <a:srgbClr val="ffb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партаменти і управ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699000" y="1619280"/>
            <a:ext cx="2201760" cy="1019160"/>
          </a:xfrm>
          <a:prstGeom prst="rect">
            <a:avLst/>
          </a:prstGeom>
          <a:solidFill>
            <a:srgbClr val="d4c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іональний науковий центр промислов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58960" y="3871800"/>
            <a:ext cx="3975120" cy="966960"/>
          </a:xfrm>
          <a:prstGeom prst="rect">
            <a:avLst/>
          </a:prstGeom>
          <a:solidFill>
            <a:srgbClr val="e5f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НЦ по машинобудуван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913040" y="1711440"/>
            <a:ext cx="177480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913040" y="3473280"/>
            <a:ext cx="46512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811760" y="2638440"/>
            <a:ext cx="1440" cy="120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53400" y="1525680"/>
            <a:ext cx="1981080" cy="18064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омислова політика, стратегія розвитку промисловості, координація формування і реалізації програм розвитку промислов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1913040" y="2161800"/>
            <a:ext cx="181116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962000" y="4746240"/>
            <a:ext cx="40320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124760" y="3699000"/>
            <a:ext cx="1822320" cy="16700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Напрямки розвитку галузей промисловості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оординація формування і реалізації програм розвитку галу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943680" y="1103400"/>
            <a:ext cx="2006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новні завд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333520" y="3792600"/>
            <a:ext cx="244440" cy="1828800"/>
          </a:xfrm>
          <a:custGeom>
            <a:avLst/>
            <a:gdLst>
              <a:gd name="textAreaLeft" fmla="*/ 156240 w 244440"/>
              <a:gd name="textAreaRight" fmla="*/ 244440 w 2444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2"/>
                </a:lnTo>
                <a:cubicBezTo>
                  <a:pt x="10800" y="9742"/>
                  <a:pt x="5400" y="10642"/>
                  <a:pt x="0" y="10642"/>
                </a:cubicBezTo>
                <a:cubicBezTo>
                  <a:pt x="5400" y="10642"/>
                  <a:pt x="10800" y="11542"/>
                  <a:pt x="10800" y="124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577960" y="3289320"/>
            <a:ext cx="214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ржавні наукові цен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817720" y="4202280"/>
            <a:ext cx="3976920" cy="968040"/>
          </a:xfrm>
          <a:prstGeom prst="rect">
            <a:avLst/>
          </a:prstGeom>
          <a:solidFill>
            <a:srgbClr val="ffc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НЦ по металургійній промислов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952720" y="4546440"/>
            <a:ext cx="3975120" cy="96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НЦ по хімічній і легкій промислов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63960" y="4905360"/>
            <a:ext cx="3975120" cy="966960"/>
          </a:xfrm>
          <a:prstGeom prst="rect">
            <a:avLst/>
          </a:prstGeom>
          <a:solidFill>
            <a:srgbClr val="f0c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НЦ по оборонно-промисловому комплек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760" y="62326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Наукові установи поєднанні в Академію промислових на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великомасштабних макротехнологічних промислових об'єдн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651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653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200160" y="880920"/>
            <a:ext cx="894384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Великомасштабні промислові об'єднання формуються д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безпечення конкурентоспроможності на внутрішньому і зовнішньому рин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центрації і ефективного використання промислового, фінансового, торгівельного і людського капітал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силення впливу держави на зростання темпів промислового виробниц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Великомасштабні промислові об'єднання в першу чергу формуються 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ржавних і казених підприємств, НДІ, К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ціонерних товариств з державною часткою ак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Першочергові великомасштабні державні холдингові компанії створюються в галуз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ільськогосподарське машинобуду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робництво товарів народного спожива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е машинобуду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оронно-промисловий комплек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іаційна промислов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імічна та нафтохімічна промислов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ладобуду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егка промислові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58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60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174600" y="914400"/>
            <a:ext cx="881856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раз до СОТ входить близько 150 країн, які контролюють більше 95% міжнародної торгівл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Вступ до цієї організації є безальтернативним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тому, що більшість із 197 зовнішньоекономічних партнерів України є членами СОТ і нам у відносинах з ними доводиться в односторонньому порядку підкорятися вимогам СОТ, не маючи відповідних можливостей захисту своїх інтерес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 формально-юридичної точки зору Україна може вступити до СОТ вже в 2007 році, але промисловість України 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не в повній мірі готов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до ефективної роботи в умовах С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гальна схема організації макротехнологічного комплексу з виробництва складної сільськогосподарської техні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668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670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2" name=""/>
          <p:cNvSpPr/>
          <p:nvPr/>
        </p:nvSpPr>
        <p:spPr>
          <a:xfrm>
            <a:off x="1008000" y="2251080"/>
            <a:ext cx="7239240" cy="4228920"/>
          </a:xfrm>
          <a:prstGeom prst="rect">
            <a:avLst/>
          </a:prstGeom>
          <a:solidFill>
            <a:srgbClr val="b1d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090440" y="5146560"/>
            <a:ext cx="4229280" cy="121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ститути науково-дослідні та проектні, КБ, Т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0800000">
            <a:off x="169920" y="2225520"/>
            <a:ext cx="533520" cy="4152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инок сільськогосподарської техні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195560" y="5464080"/>
            <a:ext cx="1307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ніторинг ринку, визначен-ня  потре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35280" y="5477040"/>
            <a:ext cx="1104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робка нових видів техні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068720" y="5489640"/>
            <a:ext cx="1092240" cy="73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хнологія і організація виробниц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04040" y="3787920"/>
            <a:ext cx="2654280" cy="252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68920" y="5603760"/>
            <a:ext cx="237492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вигунобудівні підприєм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10800000">
            <a:off x="5719320" y="3952440"/>
            <a:ext cx="584280" cy="14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мбайнове виробниц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0800000">
            <a:off x="6544800" y="3952440"/>
            <a:ext cx="584280" cy="14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кторне виробниц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10800000">
            <a:off x="7332840" y="3952440"/>
            <a:ext cx="583920" cy="14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стема сільгоспмаш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973840" y="6035760"/>
            <a:ext cx="1701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5973840" y="5387760"/>
            <a:ext cx="0" cy="21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799320" y="5387760"/>
            <a:ext cx="0" cy="21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7599240" y="5349600"/>
            <a:ext cx="0" cy="21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78480" y="2390760"/>
            <a:ext cx="2654280" cy="1282680"/>
          </a:xfrm>
          <a:prstGeom prst="rect">
            <a:avLst/>
          </a:prstGeom>
          <a:solidFill>
            <a:srgbClr val="ff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Фінансово-кредитна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592600" y="3241800"/>
            <a:ext cx="22100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зингова компан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580000" y="2695680"/>
            <a:ext cx="245124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а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999040" y="3546360"/>
            <a:ext cx="0" cy="393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837480" y="3533760"/>
            <a:ext cx="0" cy="393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612200" y="3533760"/>
            <a:ext cx="0" cy="393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11920" y="298764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942320" y="2975040"/>
            <a:ext cx="0" cy="812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703440" y="3381480"/>
            <a:ext cx="487656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rot="10800000">
            <a:off x="8537400" y="2259000"/>
            <a:ext cx="355680" cy="4030560"/>
          </a:xfrm>
          <a:prstGeom prst="rect">
            <a:avLst/>
          </a:prstGeom>
          <a:solidFill>
            <a:srgbClr val="e2c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уміжні підприєм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8158320" y="509580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3440" y="5832360"/>
            <a:ext cx="403200" cy="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443320" y="5870520"/>
            <a:ext cx="291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2720" y="5896080"/>
            <a:ext cx="203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305320" y="5806800"/>
            <a:ext cx="198720" cy="14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31760" y="1139760"/>
            <a:ext cx="7188480" cy="558720"/>
          </a:xfrm>
          <a:prstGeom prst="rect">
            <a:avLst/>
          </a:prstGeom>
          <a:solidFill>
            <a:srgbClr val="ff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іністерство промислової полі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74680" y="2441520"/>
            <a:ext cx="348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рпорація (Холдинг, ФПГ, ТН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18080" y="170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09120" y="1722600"/>
            <a:ext cx="746280" cy="50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001000" y="1706400"/>
            <a:ext cx="595440" cy="517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ловні принципи реформування підприєм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0" y="798480"/>
          <a:ext cx="9144000" cy="6006960"/>
        </p:xfrm>
        <a:graphic>
          <a:graphicData uri="http://schemas.openxmlformats.org/drawingml/2006/table">
            <a:tbl>
              <a:tblPr/>
              <a:tblGrid>
                <a:gridCol w="441360"/>
                <a:gridCol w="1692360"/>
                <a:gridCol w="3230280"/>
                <a:gridCol w="3780000"/>
              </a:tblGrid>
              <a:tr h="242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дії уклад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ідсистем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 уклад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нуючи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кове забезпеч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е, інерційне, в значній мірі відокремлене від виробниц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е, не інерційне, інтегроване з виробництв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ізація того, що виробле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цтво того, що буде користуватися попи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 і управлі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ий, реагування на змі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, довгострокове і упереджуюч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истичне і композиційне, низько автоматизован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й синтез, високо автоматизован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обниц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еншення матеріалу при формоутворенні; концентрація впливу  на один об'єкт по точці або лінії; низька безперервність; висока фондо-, енерго- та матеріаловитратність; низька інформатизац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озподіл або збільшення матеріалу при формоутворенні; концентрація впливу - на один об'єкт  чи групу об'єктів по групі точок, ліній, поверхонь, об'ємів; висока безперервність; низька фондо-, енерго- та матеріаловитратність; висока інформатизац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і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емі машини та їх одномірні об'єднання; механізований рівень із стаціонарною зоною безпосереднього технологічного впливу. Недостатня гнучкість, відсутня трансформерні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балансовані багатомірні системи машин. Автоматизований та інтелектуалізований рівень із стаціонарною і рухливою зоною безпосереднього технологічного впливу. Висока гнучкість та наявність трансформерност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зац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іч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ізац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єрархічна лінійно-функціональна або матрична структу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тьова та інтелектно-сітьова структу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ономі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шана, кризова, перехідна, неоптимізова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шана, стабільно розвивається, оптимізован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бу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гатоланковий, монополізований з  суттєвим впливом не економічних факторі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ланковий, переважно фірмовий, демонополізований, який визначається економічними фактор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9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720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722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етапи розвитку підприємств галуз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0" y="877680"/>
            <a:ext cx="914400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Перший етап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откострокові заходи щодо ліквідації “вузьких місць” у виробництві, управлінні, оргструктурі, технології, забезпеченні якості тощо. Досягається відновлення рентабельної роботи підприємств, зростання обсягів виробництва до рівня, що перевищує точку беззбитковості, конкурентоспроможність. Відновлюється розширене відтворення виробниц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ростання обсягів виробництва – 70-7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сяги інвестицій для реалізації етапу – 15-20% від зростання обсягів виробниц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Другий етап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структуризація і модернізація підприємств, технологічне переоснащення. Досягається суттєве підвищення обсягів виробництва і продаж, фінансових результатів, зростання рівня зарплати. Створюється сучасне конкурентоспроможне на внутрішньому і зовнішньому ринках підприє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ростання обсягів виробництва – 80-2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сяги інвестицій для реалізації етапу – 35-50% від зростання обсягів виробництва на початку етапу і 50-70% на закінче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Третій етап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амостійна ефективна робота підприємств в ринкових умо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ростання обсягів виробництва – по потреб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сяги інвестицій для забезпечення зростання – 85-100% від зростання обсягів виробниц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737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739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11120" y="0"/>
            <a:ext cx="78328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роткострокові зах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753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755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67" name=""/>
          <p:cNvGraphicFramePr/>
          <p:nvPr/>
        </p:nvGraphicFramePr>
        <p:xfrm>
          <a:off x="182520" y="1925640"/>
          <a:ext cx="4427640" cy="4950000"/>
        </p:xfrm>
        <a:graphic>
          <a:graphicData uri="http://schemas.openxmlformats.org/drawingml/2006/table">
            <a:tbl>
              <a:tblPr/>
              <a:tblGrid>
                <a:gridCol w="379440"/>
                <a:gridCol w="4048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і напрями здійснення заход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квідація "вузьких місць“ у виробництві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41360" indent="-166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 обладнання та технологічного оснащенн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41360" indent="-166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від зношеного та надлишкового обладнанн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41360" indent="-1666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а незначної кількості додаткового обладнання, критичного з точки зору обсягів і якості виробниц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осконалення оргструктури та системи управління, реінжинирінг бізнес процес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осконалення технології виготовлення продук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ровадження нових методів проектування (САПР) техніки та технології її виготов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досконалення системи управління якіст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вищення продуктивності прац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єння виробництва нових моделей продукції та перехідних їх модифікаці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b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4726080" y="2428920"/>
          <a:ext cx="4235400" cy="3701880"/>
        </p:xfrm>
        <a:graphic>
          <a:graphicData uri="http://schemas.openxmlformats.org/drawingml/2006/table">
            <a:tbl>
              <a:tblPr/>
              <a:tblGrid>
                <a:gridCol w="422280"/>
                <a:gridCol w="38131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і 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остання обсягів виробництва на 70-75%, перехід за точку беззбитков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еншення собівартості продукції на 25-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вищення конкурентоспроможності підприємств, технічного рівня продукції та її якост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остання інвестицій з не бюджетних джер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більшення надходжень до бюджетів різних рівнів на 20-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упність (в тому числі і бюджетна) вкладень 1-1,5 ро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остання заробітної плати на 60-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ffb1"/>
                    </a:solidFill>
                  </a:tcPr>
                </a:tc>
              </a:tr>
            </a:tbl>
          </a:graphicData>
        </a:graphic>
      </p:graphicFrame>
      <p:sp>
        <p:nvSpPr>
          <p:cNvPr id="769" name=""/>
          <p:cNvSpPr/>
          <p:nvPr/>
        </p:nvSpPr>
        <p:spPr>
          <a:xfrm>
            <a:off x="0" y="6858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плексні заходи організаційно-технічної спрямованості. Діють в короткостроковому періоді. Потребують для своєї реалізації 10-15% від обсягів виробництва. Реалізуються за 9-18 місяців. Забезпечують зростання обсягів виробництва на 70-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на ефективності інвести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049560" y="2624040"/>
            <a:ext cx="204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тап 2 – Реструктуризація, реконструкція і модернізац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22200" y="1027080"/>
            <a:ext cx="0" cy="540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66840" y="4956120"/>
            <a:ext cx="108108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873520" y="4967280"/>
            <a:ext cx="108108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73520" y="3882960"/>
            <a:ext cx="1081080" cy="1079640"/>
          </a:xfrm>
          <a:prstGeom prst="rect">
            <a:avLst/>
          </a:prstGeom>
          <a:solidFill>
            <a:srgbClr val="ffa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іст обсягів виробниц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1,7-2,2 ра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384880" y="4984920"/>
            <a:ext cx="1081080" cy="1428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384880" y="3900600"/>
            <a:ext cx="1081080" cy="1079280"/>
          </a:xfrm>
          <a:prstGeom prst="rect">
            <a:avLst/>
          </a:prstGeom>
          <a:solidFill>
            <a:srgbClr val="ffa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391000" y="2190600"/>
            <a:ext cx="1079640" cy="1722600"/>
          </a:xfrm>
          <a:prstGeom prst="rect">
            <a:avLst/>
          </a:prstGeom>
          <a:solidFill>
            <a:srgbClr val="f9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іст обсягів виробниц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2,5-3 ра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78000" y="2193840"/>
            <a:ext cx="6298560" cy="4600440"/>
            <a:chOff x="378000" y="2193840"/>
            <a:chExt cx="6298560" cy="4600440"/>
          </a:xfrm>
        </p:grpSpPr>
        <p:sp>
          <p:nvSpPr>
            <p:cNvPr id="780" name=""/>
            <p:cNvSpPr/>
            <p:nvPr/>
          </p:nvSpPr>
          <p:spPr>
            <a:xfrm>
              <a:off x="378000" y="6478560"/>
              <a:ext cx="11505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005-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3000" y="6129360"/>
              <a:ext cx="1080720" cy="287280"/>
            </a:xfrm>
            <a:prstGeom prst="rect">
              <a:avLst/>
            </a:prstGeom>
            <a:solidFill>
              <a:srgbClr val="9dff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Інвестиц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42920" y="6449760"/>
              <a:ext cx="11523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007-20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74720" y="3881160"/>
              <a:ext cx="1196280" cy="2540160"/>
            </a:xfrm>
            <a:custGeom>
              <a:avLst/>
              <a:gdLst/>
              <a:ahLst/>
              <a:rect l="l" t="t" r="r" b="b"/>
              <a:pathLst>
                <a:path w="1885" h="4000">
                  <a:moveTo>
                    <a:pt x="0" y="3556"/>
                  </a:moveTo>
                  <a:lnTo>
                    <a:pt x="1885" y="0"/>
                  </a:lnTo>
                  <a:lnTo>
                    <a:pt x="1849" y="1707"/>
                  </a:lnTo>
                  <a:lnTo>
                    <a:pt x="0" y="4000"/>
                  </a:lnTo>
                  <a:lnTo>
                    <a:pt x="0" y="3556"/>
                  </a:lnTo>
                  <a:close/>
                </a:path>
              </a:pathLst>
            </a:custGeom>
            <a:gradFill rotWithShape="0">
              <a:gsLst>
                <a:gs pos="0">
                  <a:srgbClr val="ffa1ff"/>
                </a:gs>
                <a:gs pos="100000">
                  <a:srgbClr val="9dff9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20440" y="5800680"/>
              <a:ext cx="11714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5-20%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від приросту обсяг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16160" y="5626080"/>
              <a:ext cx="1078920" cy="807840"/>
            </a:xfrm>
            <a:prstGeom prst="rect">
              <a:avLst/>
            </a:prstGeom>
            <a:solidFill>
              <a:srgbClr val="9dff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Інвестиц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187520" y="2193840"/>
              <a:ext cx="1196640" cy="4245120"/>
            </a:xfrm>
            <a:custGeom>
              <a:avLst/>
              <a:gdLst/>
              <a:ahLst/>
              <a:rect l="l" t="t" r="r" b="b"/>
              <a:pathLst>
                <a:path w="1885" h="6685">
                  <a:moveTo>
                    <a:pt x="9" y="5414"/>
                  </a:moveTo>
                  <a:lnTo>
                    <a:pt x="1885" y="0"/>
                  </a:lnTo>
                  <a:lnTo>
                    <a:pt x="1875" y="2711"/>
                  </a:lnTo>
                  <a:lnTo>
                    <a:pt x="0" y="6685"/>
                  </a:lnTo>
                  <a:lnTo>
                    <a:pt x="9" y="5414"/>
                  </a:lnTo>
                  <a:close/>
                </a:path>
              </a:pathLst>
            </a:custGeom>
            <a:gradFill rotWithShape="0">
              <a:gsLst>
                <a:gs pos="0">
                  <a:srgbClr val="f9ff81"/>
                </a:gs>
                <a:gs pos="100000">
                  <a:srgbClr val="9dff9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33600" y="5817960"/>
              <a:ext cx="112536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0-60%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від приросту обсягі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751360" y="6433920"/>
              <a:ext cx="9252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01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5583240" y="5589720"/>
            <a:ext cx="1081080" cy="807840"/>
          </a:xfrm>
          <a:prstGeom prst="rect">
            <a:avLst/>
          </a:prstGeom>
          <a:solidFill>
            <a:srgbClr val="9dff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Інвести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840800" y="4967280"/>
            <a:ext cx="1081080" cy="144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840800" y="3882960"/>
            <a:ext cx="1081080" cy="1081080"/>
          </a:xfrm>
          <a:prstGeom prst="rect">
            <a:avLst/>
          </a:prstGeom>
          <a:solidFill>
            <a:srgbClr val="ffa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54960" y="1433520"/>
            <a:ext cx="1185840" cy="4968720"/>
          </a:xfrm>
          <a:custGeom>
            <a:avLst/>
            <a:gdLst/>
            <a:ahLst/>
            <a:rect l="l" t="t" r="r" b="b"/>
            <a:pathLst>
              <a:path w="1866" h="7823">
                <a:moveTo>
                  <a:pt x="9" y="6552"/>
                </a:moveTo>
                <a:lnTo>
                  <a:pt x="1866" y="0"/>
                </a:lnTo>
                <a:lnTo>
                  <a:pt x="1866" y="1173"/>
                </a:lnTo>
                <a:lnTo>
                  <a:pt x="0" y="7823"/>
                </a:lnTo>
                <a:lnTo>
                  <a:pt x="9" y="6552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9dff9d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700680" y="5780160"/>
            <a:ext cx="1216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0-100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ід приросту обсяг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846920" y="2173320"/>
            <a:ext cx="1079640" cy="1724040"/>
          </a:xfrm>
          <a:prstGeom prst="rect">
            <a:avLst/>
          </a:prstGeom>
          <a:solidFill>
            <a:srgbClr val="f9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17143200">
            <a:off x="6802920" y="3713400"/>
            <a:ext cx="892440" cy="395280"/>
          </a:xfrm>
          <a:prstGeom prst="rightArrow">
            <a:avLst>
              <a:gd name="adj1" fmla="val 52074"/>
              <a:gd name="adj2" fmla="val 96780"/>
            </a:avLst>
          </a:prstGeom>
          <a:gradFill rotWithShape="0">
            <a:gsLst>
              <a:gs pos="0">
                <a:srgbClr val="99ccff"/>
              </a:gs>
              <a:gs pos="100000">
                <a:srgbClr val="9dff9d"/>
              </a:gs>
            </a:gsLst>
            <a:lin ang="152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24000" y="6411960"/>
            <a:ext cx="882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845480" y="1414440"/>
            <a:ext cx="1081080" cy="752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іст обсягів виробництва - по потреб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38280" y="3962520"/>
            <a:ext cx="18939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тап 1 - Короткострокові за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2200" y="39844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66840" y="3713040"/>
            <a:ext cx="6537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34880" y="1263600"/>
            <a:ext cx="118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яги виробництва, млрд. г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472600" y="6456240"/>
            <a:ext cx="58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680" y="20718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1800" y="1968480"/>
            <a:ext cx="6541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170000" y="2290680"/>
            <a:ext cx="30812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жавна підтримка промислов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84520" y="1658880"/>
            <a:ext cx="333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тап 3 – самостійна робота підприєм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808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810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378000" y="2178000"/>
            <a:ext cx="6298920" cy="4616640"/>
            <a:chOff x="378000" y="2178000"/>
            <a:chExt cx="6298920" cy="4616640"/>
          </a:xfrm>
        </p:grpSpPr>
        <p:sp>
          <p:nvSpPr>
            <p:cNvPr id="823" name=""/>
            <p:cNvSpPr/>
            <p:nvPr/>
          </p:nvSpPr>
          <p:spPr>
            <a:xfrm>
              <a:off x="378000" y="6478560"/>
              <a:ext cx="1150920" cy="316080"/>
            </a:xfrm>
            <a:prstGeom prst="rect">
              <a:avLst/>
            </a:prstGeom>
            <a:solidFill>
              <a:srgbClr val="e2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007-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360" y="5794200"/>
              <a:ext cx="1081080" cy="622440"/>
            </a:xfrm>
            <a:prstGeom prst="rect">
              <a:avLst/>
            </a:prstGeom>
            <a:solidFill>
              <a:srgbClr val="9dff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Інвестиц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43280" y="6450120"/>
              <a:ext cx="1152360" cy="315720"/>
            </a:xfrm>
            <a:prstGeom prst="rect">
              <a:avLst/>
            </a:prstGeom>
            <a:solidFill>
              <a:srgbClr val="e2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009-20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20800" y="5800680"/>
              <a:ext cx="1171800" cy="250920"/>
            </a:xfrm>
            <a:prstGeom prst="rect">
              <a:avLst/>
            </a:prstGeom>
            <a:solidFill>
              <a:srgbClr val="e2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30-4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16160" y="5275440"/>
              <a:ext cx="1079640" cy="1158840"/>
            </a:xfrm>
            <a:prstGeom prst="rect">
              <a:avLst/>
            </a:prstGeom>
            <a:solidFill>
              <a:srgbClr val="9dff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Інвестиц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280040" y="5818320"/>
              <a:ext cx="1079280" cy="236520"/>
            </a:xfrm>
            <a:prstGeom prst="rect">
              <a:avLst/>
            </a:prstGeom>
            <a:solidFill>
              <a:srgbClr val="e2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5-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51360" y="6434280"/>
              <a:ext cx="925560" cy="315720"/>
            </a:xfrm>
            <a:prstGeom prst="rect">
              <a:avLst/>
            </a:prstGeom>
            <a:solidFill>
              <a:srgbClr val="e2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01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89320" y="2178000"/>
              <a:ext cx="1197000" cy="4245120"/>
            </a:xfrm>
            <a:custGeom>
              <a:avLst/>
              <a:gdLst/>
              <a:ahLst/>
              <a:rect l="l" t="t" r="r" b="b"/>
              <a:pathLst>
                <a:path w="754" h="2674">
                  <a:moveTo>
                    <a:pt x="5" y="1958"/>
                  </a:moveTo>
                  <a:lnTo>
                    <a:pt x="754" y="0"/>
                  </a:lnTo>
                  <a:lnTo>
                    <a:pt x="750" y="1084"/>
                  </a:lnTo>
                  <a:lnTo>
                    <a:pt x="0" y="2674"/>
                  </a:lnTo>
                  <a:lnTo>
                    <a:pt x="5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9ff81"/>
                </a:gs>
                <a:gs pos="100000">
                  <a:srgbClr val="9dff9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89120" y="3852720"/>
              <a:ext cx="1197000" cy="2540160"/>
            </a:xfrm>
            <a:custGeom>
              <a:avLst/>
              <a:gdLst/>
              <a:ahLst/>
              <a:rect l="l" t="t" r="r" b="b"/>
              <a:pathLst>
                <a:path w="754" h="1600">
                  <a:moveTo>
                    <a:pt x="4" y="1222"/>
                  </a:moveTo>
                  <a:lnTo>
                    <a:pt x="754" y="0"/>
                  </a:lnTo>
                  <a:lnTo>
                    <a:pt x="740" y="683"/>
                  </a:lnTo>
                  <a:lnTo>
                    <a:pt x="0" y="1600"/>
                  </a:lnTo>
                  <a:lnTo>
                    <a:pt x="4" y="1222"/>
                  </a:lnTo>
                  <a:close/>
                </a:path>
              </a:pathLst>
            </a:custGeom>
            <a:gradFill rotWithShape="0">
              <a:gsLst>
                <a:gs pos="0">
                  <a:srgbClr val="ffa1ff"/>
                </a:gs>
                <a:gs pos="100000">
                  <a:srgbClr val="9dff9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"/>
          <p:cNvSpPr/>
          <p:nvPr/>
        </p:nvSpPr>
        <p:spPr>
          <a:xfrm rot="18251400">
            <a:off x="2027520" y="4887360"/>
            <a:ext cx="893880" cy="395280"/>
          </a:xfrm>
          <a:prstGeom prst="rightArrow">
            <a:avLst>
              <a:gd name="adj1" fmla="val 50000"/>
              <a:gd name="adj2" fmla="val 56535"/>
            </a:avLst>
          </a:prstGeom>
          <a:gradFill rotWithShape="0">
            <a:gsLst>
              <a:gs pos="0">
                <a:srgbClr val="ff6dff"/>
              </a:gs>
              <a:gs pos="100000">
                <a:srgbClr val="9dff9d"/>
              </a:gs>
            </a:gsLst>
            <a:lin ang="141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rot="17599800">
            <a:off x="4482720" y="4012560"/>
            <a:ext cx="892440" cy="393840"/>
          </a:xfrm>
          <a:prstGeom prst="rightArrow">
            <a:avLst>
              <a:gd name="adj1" fmla="val 52074"/>
              <a:gd name="adj2" fmla="val 97133"/>
            </a:avLst>
          </a:prstGeom>
          <a:gradFill rotWithShape="0">
            <a:gsLst>
              <a:gs pos="0">
                <a:srgbClr val="f9ff81"/>
              </a:gs>
              <a:gs pos="100000">
                <a:srgbClr val="9dff9d"/>
              </a:gs>
            </a:gsLst>
            <a:lin ang="148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прискореного інноваційного розви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836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838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0" name=""/>
          <p:cNvSpPr/>
          <p:nvPr/>
        </p:nvSpPr>
        <p:spPr>
          <a:xfrm>
            <a:off x="174600" y="939960"/>
            <a:ext cx="8793360" cy="5610240"/>
          </a:xfrm>
          <a:prstGeom prst="rect">
            <a:avLst/>
          </a:prstGeom>
          <a:solidFill>
            <a:srgbClr val="ffeb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досконалене нормативно-правове 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90520" y="1425600"/>
            <a:ext cx="8435880" cy="17604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ституціональні складов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4120" y="1898640"/>
            <a:ext cx="1575000" cy="10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структуровані наукові устан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36760"/>
                <a:tab algn="l" pos="2873520"/>
                <a:tab algn="l" pos="4309920"/>
                <a:tab algn="l" pos="5746680"/>
                <a:tab algn="l" pos="7183440"/>
                <a:tab algn="l" pos="8620200"/>
                <a:tab algn="l" pos="1005696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ДНЦП, об'єднання, перепрофілювання під задачі прогр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084400" y="1911240"/>
            <a:ext cx="1793880" cy="10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новаційні струту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Центр трансферу технологій, технопарки, технополіси, технологічні інкубатори, ФПГ та інші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35600" y="1898640"/>
            <a:ext cx="152064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алузева інвести-ційна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Інвестиційні, лізингові, страхові компані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8960" y="3672000"/>
            <a:ext cx="4227480" cy="26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ехані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мулювання зацікавленості підприємств у впроваджені інноваці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стема цільових програм (великомасштабних, економічно і соціально значимих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ільове кредитування запровадження критичних технологі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мулювання фінансово-кредитних установ в довгостроковому кредитуванні і вкладанні коштів в інноваційну діяльні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досконалений механізм бюджетного фінансування і кредитування інноваційної діяльності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686560" y="1898640"/>
            <a:ext cx="1361880" cy="10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фраструктура (інформаційна, фінансова, науково-техніч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142040" y="1922400"/>
            <a:ext cx="1384560" cy="100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оживачі інноваці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підприємства та їх об'єднан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237280" y="3166920"/>
            <a:ext cx="3622680" cy="3329280"/>
          </a:xfrm>
          <a:prstGeom prst="ellipse">
            <a:avLst/>
          </a:prstGeom>
          <a:solidFill>
            <a:srgbClr val="fff9d7"/>
          </a:solidFill>
          <a:ln w="30600">
            <a:solidFill>
              <a:srgbClr val="fdb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140520" y="5702400"/>
            <a:ext cx="1933560" cy="614160"/>
          </a:xfrm>
          <a:prstGeom prst="ellipse">
            <a:avLst/>
          </a:prstGeom>
          <a:solidFill>
            <a:srgbClr val="ffff99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005680" y="4122720"/>
            <a:ext cx="679680" cy="1403280"/>
          </a:xfrm>
          <a:prstGeom prst="ellipse">
            <a:avLst/>
          </a:prstGeom>
          <a:solidFill>
            <a:srgbClr val="e9fb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419800" y="4122720"/>
            <a:ext cx="671400" cy="1403280"/>
          </a:xfrm>
          <a:prstGeom prst="ellipse">
            <a:avLst/>
          </a:prstGeom>
          <a:solidFill>
            <a:srgbClr val="ccffcc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3346560"/>
            <a:ext cx="1933560" cy="614160"/>
          </a:xfrm>
          <a:prstGeom prst="ellipse">
            <a:avLst/>
          </a:prstGeom>
          <a:solidFill>
            <a:srgbClr val="ccffff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342120" y="4249800"/>
            <a:ext cx="1420920" cy="1201680"/>
          </a:xfrm>
          <a:prstGeom prst="ellipse">
            <a:avLst/>
          </a:prstGeom>
          <a:solidFill>
            <a:srgbClr val="ffcde6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6080040" y="4805280"/>
            <a:ext cx="1930320" cy="68400"/>
            <a:chOff x="6080040" y="4805280"/>
            <a:chExt cx="1930320" cy="68400"/>
          </a:xfrm>
        </p:grpSpPr>
        <p:sp>
          <p:nvSpPr>
            <p:cNvPr id="865" name=""/>
            <p:cNvSpPr/>
            <p:nvPr/>
          </p:nvSpPr>
          <p:spPr>
            <a:xfrm>
              <a:off x="6147720" y="4827960"/>
              <a:ext cx="1791000" cy="2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080040" y="4805280"/>
              <a:ext cx="78480" cy="68400"/>
            </a:xfrm>
            <a:custGeom>
              <a:avLst/>
              <a:gdLst/>
              <a:ahLst/>
              <a:rect l="l" t="t" r="r" b="b"/>
              <a:pathLst>
                <a:path w="176" h="168">
                  <a:moveTo>
                    <a:pt x="176" y="0"/>
                  </a:moveTo>
                  <a:lnTo>
                    <a:pt x="0" y="88"/>
                  </a:lnTo>
                  <a:lnTo>
                    <a:pt x="176" y="16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31880" y="4805280"/>
              <a:ext cx="78480" cy="68400"/>
            </a:xfrm>
            <a:custGeom>
              <a:avLst/>
              <a:gdLst/>
              <a:ahLst/>
              <a:rect l="l" t="t" r="r" b="b"/>
              <a:pathLst>
                <a:path w="176" h="168">
                  <a:moveTo>
                    <a:pt x="0" y="168"/>
                  </a:moveTo>
                  <a:lnTo>
                    <a:pt x="176" y="88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066080" y="3960720"/>
            <a:ext cx="75960" cy="1734840"/>
            <a:chOff x="7066080" y="3960720"/>
            <a:chExt cx="75960" cy="1734840"/>
          </a:xfrm>
        </p:grpSpPr>
        <p:sp>
          <p:nvSpPr>
            <p:cNvPr id="869" name=""/>
            <p:cNvSpPr/>
            <p:nvPr/>
          </p:nvSpPr>
          <p:spPr>
            <a:xfrm>
              <a:off x="7091280" y="4023000"/>
              <a:ext cx="252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66080" y="3960720"/>
              <a:ext cx="75960" cy="72000"/>
            </a:xfrm>
            <a:custGeom>
              <a:avLst/>
              <a:gdLst/>
              <a:ahLst/>
              <a:rect l="l" t="t" r="r" b="b"/>
              <a:pathLst>
                <a:path w="168" h="177">
                  <a:moveTo>
                    <a:pt x="168" y="177"/>
                  </a:moveTo>
                  <a:lnTo>
                    <a:pt x="80" y="0"/>
                  </a:lnTo>
                  <a:lnTo>
                    <a:pt x="0" y="177"/>
                  </a:lnTo>
                  <a:lnTo>
                    <a:pt x="16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066080" y="5627520"/>
              <a:ext cx="75960" cy="68040"/>
            </a:xfrm>
            <a:custGeom>
              <a:avLst/>
              <a:gdLst/>
              <a:ahLst/>
              <a:rect l="l" t="t" r="r" b="b"/>
              <a:pathLst>
                <a:path w="168" h="168">
                  <a:moveTo>
                    <a:pt x="0" y="0"/>
                  </a:moveTo>
                  <a:lnTo>
                    <a:pt x="80" y="168"/>
                  </a:lnTo>
                  <a:lnTo>
                    <a:pt x="1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45080" y="3448080"/>
            <a:ext cx="1200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053040" y="3446640"/>
            <a:ext cx="203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Центр трансферу технологій, інноваційний менеджмент, консалтингові компані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394400" y="3741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516640" y="4282920"/>
            <a:ext cx="5572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5241960" y="4453560"/>
            <a:ext cx="107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-54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НДІ, КБ, впрова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жувальні компані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rot="16200000">
            <a:off x="5798880" y="4403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51840" y="5837400"/>
            <a:ext cx="128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Фінансові організації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Держбюдж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139240" y="4351320"/>
            <a:ext cx="4572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6200000">
            <a:off x="7882560" y="4737600"/>
            <a:ext cx="81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ідприєм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16200000">
            <a:off x="8283240" y="4531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7184880" y="4923000"/>
            <a:ext cx="825480" cy="772920"/>
            <a:chOff x="7184880" y="4923000"/>
            <a:chExt cx="825480" cy="772920"/>
          </a:xfrm>
        </p:grpSpPr>
        <p:sp>
          <p:nvSpPr>
            <p:cNvPr id="883" name=""/>
            <p:cNvSpPr/>
            <p:nvPr/>
          </p:nvSpPr>
          <p:spPr>
            <a:xfrm>
              <a:off x="7202520" y="4945680"/>
              <a:ext cx="736200" cy="688320"/>
            </a:xfrm>
            <a:custGeom>
              <a:avLst/>
              <a:gdLst/>
              <a:ahLst/>
              <a:rect l="l" t="t" r="r" b="b"/>
              <a:pathLst>
                <a:path w="1649" h="1691">
                  <a:moveTo>
                    <a:pt x="0" y="1675"/>
                  </a:moveTo>
                  <a:lnTo>
                    <a:pt x="48" y="1691"/>
                  </a:lnTo>
                  <a:lnTo>
                    <a:pt x="88" y="1554"/>
                  </a:lnTo>
                  <a:lnTo>
                    <a:pt x="128" y="1410"/>
                  </a:lnTo>
                  <a:lnTo>
                    <a:pt x="176" y="1258"/>
                  </a:lnTo>
                  <a:lnTo>
                    <a:pt x="232" y="1098"/>
                  </a:lnTo>
                  <a:lnTo>
                    <a:pt x="296" y="938"/>
                  </a:lnTo>
                  <a:lnTo>
                    <a:pt x="272" y="938"/>
                  </a:lnTo>
                  <a:lnTo>
                    <a:pt x="288" y="962"/>
                  </a:lnTo>
                  <a:lnTo>
                    <a:pt x="360" y="817"/>
                  </a:lnTo>
                  <a:lnTo>
                    <a:pt x="440" y="681"/>
                  </a:lnTo>
                  <a:lnTo>
                    <a:pt x="536" y="577"/>
                  </a:lnTo>
                  <a:lnTo>
                    <a:pt x="640" y="481"/>
                  </a:lnTo>
                  <a:lnTo>
                    <a:pt x="768" y="393"/>
                  </a:lnTo>
                  <a:lnTo>
                    <a:pt x="912" y="321"/>
                  </a:lnTo>
                  <a:lnTo>
                    <a:pt x="1072" y="249"/>
                  </a:lnTo>
                  <a:lnTo>
                    <a:pt x="1048" y="233"/>
                  </a:lnTo>
                  <a:lnTo>
                    <a:pt x="1048" y="257"/>
                  </a:lnTo>
                  <a:lnTo>
                    <a:pt x="1208" y="201"/>
                  </a:lnTo>
                  <a:lnTo>
                    <a:pt x="1361" y="145"/>
                  </a:lnTo>
                  <a:lnTo>
                    <a:pt x="1513" y="97"/>
                  </a:lnTo>
                  <a:lnTo>
                    <a:pt x="1649" y="49"/>
                  </a:lnTo>
                  <a:lnTo>
                    <a:pt x="1633" y="0"/>
                  </a:lnTo>
                  <a:lnTo>
                    <a:pt x="1513" y="40"/>
                  </a:lnTo>
                  <a:lnTo>
                    <a:pt x="1361" y="89"/>
                  </a:lnTo>
                  <a:lnTo>
                    <a:pt x="1208" y="145"/>
                  </a:lnTo>
                  <a:lnTo>
                    <a:pt x="1048" y="201"/>
                  </a:lnTo>
                  <a:lnTo>
                    <a:pt x="1032" y="209"/>
                  </a:lnTo>
                  <a:lnTo>
                    <a:pt x="872" y="281"/>
                  </a:lnTo>
                  <a:lnTo>
                    <a:pt x="728" y="353"/>
                  </a:lnTo>
                  <a:lnTo>
                    <a:pt x="600" y="441"/>
                  </a:lnTo>
                  <a:lnTo>
                    <a:pt x="496" y="537"/>
                  </a:lnTo>
                  <a:lnTo>
                    <a:pt x="400" y="641"/>
                  </a:lnTo>
                  <a:lnTo>
                    <a:pt x="320" y="777"/>
                  </a:lnTo>
                  <a:lnTo>
                    <a:pt x="248" y="922"/>
                  </a:lnTo>
                  <a:lnTo>
                    <a:pt x="240" y="938"/>
                  </a:lnTo>
                  <a:lnTo>
                    <a:pt x="240" y="938"/>
                  </a:lnTo>
                  <a:lnTo>
                    <a:pt x="176" y="1098"/>
                  </a:lnTo>
                  <a:lnTo>
                    <a:pt x="120" y="1258"/>
                  </a:lnTo>
                  <a:lnTo>
                    <a:pt x="72" y="1410"/>
                  </a:lnTo>
                  <a:lnTo>
                    <a:pt x="32" y="1554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84880" y="5621040"/>
              <a:ext cx="71280" cy="74880"/>
            </a:xfrm>
            <a:custGeom>
              <a:avLst/>
              <a:gdLst/>
              <a:ahLst/>
              <a:rect l="l" t="t" r="r" b="b"/>
              <a:pathLst>
                <a:path w="160" h="184">
                  <a:moveTo>
                    <a:pt x="0" y="0"/>
                  </a:moveTo>
                  <a:lnTo>
                    <a:pt x="24" y="184"/>
                  </a:lnTo>
                  <a:lnTo>
                    <a:pt x="16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24680" y="4923000"/>
              <a:ext cx="85680" cy="68760"/>
            </a:xfrm>
            <a:custGeom>
              <a:avLst/>
              <a:gdLst/>
              <a:ahLst/>
              <a:rect l="l" t="t" r="r" b="b"/>
              <a:pathLst>
                <a:path w="192" h="169">
                  <a:moveTo>
                    <a:pt x="56" y="169"/>
                  </a:moveTo>
                  <a:lnTo>
                    <a:pt x="192" y="24"/>
                  </a:lnTo>
                  <a:lnTo>
                    <a:pt x="0" y="0"/>
                  </a:lnTo>
                  <a:lnTo>
                    <a:pt x="5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182000" y="3960720"/>
            <a:ext cx="812520" cy="776520"/>
            <a:chOff x="7182000" y="3960720"/>
            <a:chExt cx="812520" cy="776520"/>
          </a:xfrm>
        </p:grpSpPr>
        <p:sp>
          <p:nvSpPr>
            <p:cNvPr id="887" name=""/>
            <p:cNvSpPr/>
            <p:nvPr/>
          </p:nvSpPr>
          <p:spPr>
            <a:xfrm>
              <a:off x="7206840" y="4023000"/>
              <a:ext cx="716400" cy="687960"/>
            </a:xfrm>
            <a:custGeom>
              <a:avLst/>
              <a:gdLst/>
              <a:ahLst/>
              <a:rect l="l" t="t" r="r" b="b"/>
              <a:pathLst>
                <a:path w="1609" h="1690">
                  <a:moveTo>
                    <a:pt x="1593" y="1690"/>
                  </a:moveTo>
                  <a:lnTo>
                    <a:pt x="1609" y="1642"/>
                  </a:lnTo>
                  <a:lnTo>
                    <a:pt x="1473" y="1602"/>
                  </a:lnTo>
                  <a:lnTo>
                    <a:pt x="1329" y="1562"/>
                  </a:lnTo>
                  <a:lnTo>
                    <a:pt x="1168" y="1514"/>
                  </a:lnTo>
                  <a:lnTo>
                    <a:pt x="1008" y="1465"/>
                  </a:lnTo>
                  <a:lnTo>
                    <a:pt x="856" y="1401"/>
                  </a:lnTo>
                  <a:lnTo>
                    <a:pt x="856" y="1433"/>
                  </a:lnTo>
                  <a:lnTo>
                    <a:pt x="872" y="1409"/>
                  </a:lnTo>
                  <a:lnTo>
                    <a:pt x="728" y="1345"/>
                  </a:lnTo>
                  <a:lnTo>
                    <a:pt x="600" y="1265"/>
                  </a:lnTo>
                  <a:lnTo>
                    <a:pt x="496" y="1177"/>
                  </a:lnTo>
                  <a:lnTo>
                    <a:pt x="400" y="1057"/>
                  </a:lnTo>
                  <a:lnTo>
                    <a:pt x="320" y="929"/>
                  </a:lnTo>
                  <a:lnTo>
                    <a:pt x="256" y="777"/>
                  </a:lnTo>
                  <a:lnTo>
                    <a:pt x="240" y="793"/>
                  </a:lnTo>
                  <a:lnTo>
                    <a:pt x="264" y="793"/>
                  </a:lnTo>
                  <a:lnTo>
                    <a:pt x="208" y="632"/>
                  </a:lnTo>
                  <a:lnTo>
                    <a:pt x="160" y="464"/>
                  </a:lnTo>
                  <a:lnTo>
                    <a:pt x="120" y="304"/>
                  </a:lnTo>
                  <a:lnTo>
                    <a:pt x="88" y="144"/>
                  </a:lnTo>
                  <a:lnTo>
                    <a:pt x="48" y="0"/>
                  </a:lnTo>
                  <a:lnTo>
                    <a:pt x="0" y="16"/>
                  </a:lnTo>
                  <a:lnTo>
                    <a:pt x="32" y="144"/>
                  </a:lnTo>
                  <a:lnTo>
                    <a:pt x="64" y="304"/>
                  </a:lnTo>
                  <a:lnTo>
                    <a:pt x="104" y="464"/>
                  </a:lnTo>
                  <a:lnTo>
                    <a:pt x="152" y="632"/>
                  </a:lnTo>
                  <a:lnTo>
                    <a:pt x="208" y="793"/>
                  </a:lnTo>
                  <a:lnTo>
                    <a:pt x="216" y="817"/>
                  </a:lnTo>
                  <a:lnTo>
                    <a:pt x="280" y="969"/>
                  </a:lnTo>
                  <a:lnTo>
                    <a:pt x="360" y="1097"/>
                  </a:lnTo>
                  <a:lnTo>
                    <a:pt x="456" y="1217"/>
                  </a:lnTo>
                  <a:lnTo>
                    <a:pt x="560" y="1305"/>
                  </a:lnTo>
                  <a:lnTo>
                    <a:pt x="688" y="1385"/>
                  </a:lnTo>
                  <a:lnTo>
                    <a:pt x="832" y="1449"/>
                  </a:lnTo>
                  <a:lnTo>
                    <a:pt x="856" y="1457"/>
                  </a:lnTo>
                  <a:lnTo>
                    <a:pt x="1008" y="1522"/>
                  </a:lnTo>
                  <a:lnTo>
                    <a:pt x="1168" y="1570"/>
                  </a:lnTo>
                  <a:lnTo>
                    <a:pt x="1329" y="1618"/>
                  </a:lnTo>
                  <a:lnTo>
                    <a:pt x="1473" y="1658"/>
                  </a:lnTo>
                  <a:lnTo>
                    <a:pt x="1593" y="1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909200" y="4672080"/>
              <a:ext cx="85320" cy="65160"/>
            </a:xfrm>
            <a:custGeom>
              <a:avLst/>
              <a:gdLst/>
              <a:ahLst/>
              <a:rect l="l" t="t" r="r" b="b"/>
              <a:pathLst>
                <a:path w="192" h="160">
                  <a:moveTo>
                    <a:pt x="0" y="160"/>
                  </a:moveTo>
                  <a:lnTo>
                    <a:pt x="192" y="128"/>
                  </a:lnTo>
                  <a:lnTo>
                    <a:pt x="48" y="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82000" y="3960720"/>
              <a:ext cx="74520" cy="78480"/>
            </a:xfrm>
            <a:custGeom>
              <a:avLst/>
              <a:gdLst/>
              <a:ahLst/>
              <a:rect l="l" t="t" r="r" b="b"/>
              <a:pathLst>
                <a:path w="168" h="193">
                  <a:moveTo>
                    <a:pt x="168" y="145"/>
                  </a:moveTo>
                  <a:lnTo>
                    <a:pt x="32" y="0"/>
                  </a:lnTo>
                  <a:lnTo>
                    <a:pt x="0" y="193"/>
                  </a:lnTo>
                  <a:lnTo>
                    <a:pt x="16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6073920" y="3967200"/>
            <a:ext cx="931680" cy="776160"/>
            <a:chOff x="6073920" y="3967200"/>
            <a:chExt cx="931680" cy="776160"/>
          </a:xfrm>
        </p:grpSpPr>
        <p:sp>
          <p:nvSpPr>
            <p:cNvPr id="891" name=""/>
            <p:cNvSpPr/>
            <p:nvPr/>
          </p:nvSpPr>
          <p:spPr>
            <a:xfrm>
              <a:off x="6145200" y="4022640"/>
              <a:ext cx="828360" cy="691200"/>
            </a:xfrm>
            <a:custGeom>
              <a:avLst/>
              <a:gdLst/>
              <a:ahLst/>
              <a:rect l="l" t="t" r="r" b="b"/>
              <a:pathLst>
                <a:path w="1857" h="1698">
                  <a:moveTo>
                    <a:pt x="1857" y="16"/>
                  </a:moveTo>
                  <a:lnTo>
                    <a:pt x="1809" y="0"/>
                  </a:lnTo>
                  <a:lnTo>
                    <a:pt x="1769" y="136"/>
                  </a:lnTo>
                  <a:lnTo>
                    <a:pt x="1737" y="288"/>
                  </a:lnTo>
                  <a:lnTo>
                    <a:pt x="1689" y="448"/>
                  </a:lnTo>
                  <a:lnTo>
                    <a:pt x="1633" y="616"/>
                  </a:lnTo>
                  <a:lnTo>
                    <a:pt x="1569" y="777"/>
                  </a:lnTo>
                  <a:lnTo>
                    <a:pt x="1593" y="777"/>
                  </a:lnTo>
                  <a:lnTo>
                    <a:pt x="1577" y="753"/>
                  </a:lnTo>
                  <a:lnTo>
                    <a:pt x="1505" y="905"/>
                  </a:lnTo>
                  <a:lnTo>
                    <a:pt x="1417" y="1041"/>
                  </a:lnTo>
                  <a:lnTo>
                    <a:pt x="1321" y="1161"/>
                  </a:lnTo>
                  <a:lnTo>
                    <a:pt x="1257" y="1209"/>
                  </a:lnTo>
                  <a:lnTo>
                    <a:pt x="1193" y="1249"/>
                  </a:lnTo>
                  <a:lnTo>
                    <a:pt x="1033" y="1329"/>
                  </a:lnTo>
                  <a:lnTo>
                    <a:pt x="1057" y="1353"/>
                  </a:lnTo>
                  <a:lnTo>
                    <a:pt x="1057" y="1321"/>
                  </a:lnTo>
                  <a:lnTo>
                    <a:pt x="881" y="1393"/>
                  </a:lnTo>
                  <a:lnTo>
                    <a:pt x="697" y="1457"/>
                  </a:lnTo>
                  <a:lnTo>
                    <a:pt x="513" y="1514"/>
                  </a:lnTo>
                  <a:lnTo>
                    <a:pt x="328" y="1562"/>
                  </a:lnTo>
                  <a:lnTo>
                    <a:pt x="152" y="1610"/>
                  </a:lnTo>
                  <a:lnTo>
                    <a:pt x="0" y="1650"/>
                  </a:lnTo>
                  <a:lnTo>
                    <a:pt x="8" y="1698"/>
                  </a:lnTo>
                  <a:lnTo>
                    <a:pt x="152" y="1666"/>
                  </a:lnTo>
                  <a:lnTo>
                    <a:pt x="328" y="1618"/>
                  </a:lnTo>
                  <a:lnTo>
                    <a:pt x="513" y="1570"/>
                  </a:lnTo>
                  <a:lnTo>
                    <a:pt x="697" y="1514"/>
                  </a:lnTo>
                  <a:lnTo>
                    <a:pt x="881" y="1449"/>
                  </a:lnTo>
                  <a:lnTo>
                    <a:pt x="1057" y="1377"/>
                  </a:lnTo>
                  <a:lnTo>
                    <a:pt x="1073" y="1369"/>
                  </a:lnTo>
                  <a:lnTo>
                    <a:pt x="1233" y="1289"/>
                  </a:lnTo>
                  <a:lnTo>
                    <a:pt x="1297" y="1249"/>
                  </a:lnTo>
                  <a:lnTo>
                    <a:pt x="1361" y="1201"/>
                  </a:lnTo>
                  <a:lnTo>
                    <a:pt x="1457" y="1081"/>
                  </a:lnTo>
                  <a:lnTo>
                    <a:pt x="1545" y="945"/>
                  </a:lnTo>
                  <a:lnTo>
                    <a:pt x="1617" y="793"/>
                  </a:lnTo>
                  <a:lnTo>
                    <a:pt x="1625" y="777"/>
                  </a:lnTo>
                  <a:lnTo>
                    <a:pt x="1625" y="777"/>
                  </a:lnTo>
                  <a:lnTo>
                    <a:pt x="1689" y="616"/>
                  </a:lnTo>
                  <a:lnTo>
                    <a:pt x="1745" y="448"/>
                  </a:lnTo>
                  <a:lnTo>
                    <a:pt x="1793" y="288"/>
                  </a:lnTo>
                  <a:lnTo>
                    <a:pt x="1825" y="136"/>
                  </a:lnTo>
                  <a:lnTo>
                    <a:pt x="185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30720" y="3967200"/>
              <a:ext cx="74880" cy="75240"/>
            </a:xfrm>
            <a:custGeom>
              <a:avLst/>
              <a:gdLst/>
              <a:ahLst/>
              <a:rect l="l" t="t" r="r" b="b"/>
              <a:pathLst>
                <a:path w="168" h="185">
                  <a:moveTo>
                    <a:pt x="168" y="185"/>
                  </a:moveTo>
                  <a:lnTo>
                    <a:pt x="128" y="0"/>
                  </a:lnTo>
                  <a:lnTo>
                    <a:pt x="0" y="137"/>
                  </a:lnTo>
                  <a:lnTo>
                    <a:pt x="168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73920" y="4674960"/>
              <a:ext cx="85680" cy="6840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144" y="0"/>
                  </a:moveTo>
                  <a:lnTo>
                    <a:pt x="0" y="136"/>
                  </a:lnTo>
                  <a:lnTo>
                    <a:pt x="192" y="16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073920" y="4916520"/>
            <a:ext cx="925200" cy="792000"/>
            <a:chOff x="6073920" y="4916520"/>
            <a:chExt cx="925200" cy="792000"/>
          </a:xfrm>
        </p:grpSpPr>
        <p:sp>
          <p:nvSpPr>
            <p:cNvPr id="895" name=""/>
            <p:cNvSpPr/>
            <p:nvPr/>
          </p:nvSpPr>
          <p:spPr>
            <a:xfrm>
              <a:off x="6141600" y="4939200"/>
              <a:ext cx="828720" cy="707400"/>
            </a:xfrm>
            <a:custGeom>
              <a:avLst/>
              <a:gdLst/>
              <a:ahLst/>
              <a:rect l="l" t="t" r="r" b="b"/>
              <a:pathLst>
                <a:path w="1857" h="1739">
                  <a:moveTo>
                    <a:pt x="16" y="0"/>
                  </a:moveTo>
                  <a:lnTo>
                    <a:pt x="0" y="48"/>
                  </a:lnTo>
                  <a:lnTo>
                    <a:pt x="144" y="89"/>
                  </a:lnTo>
                  <a:lnTo>
                    <a:pt x="288" y="129"/>
                  </a:lnTo>
                  <a:lnTo>
                    <a:pt x="457" y="177"/>
                  </a:lnTo>
                  <a:lnTo>
                    <a:pt x="625" y="233"/>
                  </a:lnTo>
                  <a:lnTo>
                    <a:pt x="793" y="297"/>
                  </a:lnTo>
                  <a:lnTo>
                    <a:pt x="793" y="265"/>
                  </a:lnTo>
                  <a:lnTo>
                    <a:pt x="769" y="289"/>
                  </a:lnTo>
                  <a:lnTo>
                    <a:pt x="929" y="361"/>
                  </a:lnTo>
                  <a:lnTo>
                    <a:pt x="1073" y="449"/>
                  </a:lnTo>
                  <a:lnTo>
                    <a:pt x="1201" y="545"/>
                  </a:lnTo>
                  <a:lnTo>
                    <a:pt x="1297" y="657"/>
                  </a:lnTo>
                  <a:lnTo>
                    <a:pt x="1393" y="793"/>
                  </a:lnTo>
                  <a:lnTo>
                    <a:pt x="1481" y="946"/>
                  </a:lnTo>
                  <a:lnTo>
                    <a:pt x="1561" y="1114"/>
                  </a:lnTo>
                  <a:lnTo>
                    <a:pt x="1633" y="1290"/>
                  </a:lnTo>
                  <a:lnTo>
                    <a:pt x="1657" y="1266"/>
                  </a:lnTo>
                  <a:lnTo>
                    <a:pt x="1625" y="1266"/>
                  </a:lnTo>
                  <a:lnTo>
                    <a:pt x="1689" y="1434"/>
                  </a:lnTo>
                  <a:lnTo>
                    <a:pt x="1753" y="1594"/>
                  </a:lnTo>
                  <a:lnTo>
                    <a:pt x="1809" y="1739"/>
                  </a:lnTo>
                  <a:lnTo>
                    <a:pt x="1857" y="1723"/>
                  </a:lnTo>
                  <a:lnTo>
                    <a:pt x="1809" y="1594"/>
                  </a:lnTo>
                  <a:lnTo>
                    <a:pt x="1745" y="1434"/>
                  </a:lnTo>
                  <a:lnTo>
                    <a:pt x="1681" y="1266"/>
                  </a:lnTo>
                  <a:lnTo>
                    <a:pt x="1673" y="1250"/>
                  </a:lnTo>
                  <a:lnTo>
                    <a:pt x="1601" y="1074"/>
                  </a:lnTo>
                  <a:lnTo>
                    <a:pt x="1521" y="906"/>
                  </a:lnTo>
                  <a:lnTo>
                    <a:pt x="1433" y="753"/>
                  </a:lnTo>
                  <a:lnTo>
                    <a:pt x="1337" y="617"/>
                  </a:lnTo>
                  <a:lnTo>
                    <a:pt x="1241" y="505"/>
                  </a:lnTo>
                  <a:lnTo>
                    <a:pt x="1113" y="409"/>
                  </a:lnTo>
                  <a:lnTo>
                    <a:pt x="969" y="321"/>
                  </a:lnTo>
                  <a:lnTo>
                    <a:pt x="809" y="249"/>
                  </a:lnTo>
                  <a:lnTo>
                    <a:pt x="793" y="241"/>
                  </a:lnTo>
                  <a:lnTo>
                    <a:pt x="625" y="177"/>
                  </a:lnTo>
                  <a:lnTo>
                    <a:pt x="457" y="121"/>
                  </a:lnTo>
                  <a:lnTo>
                    <a:pt x="288" y="73"/>
                  </a:lnTo>
                  <a:lnTo>
                    <a:pt x="144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73920" y="4916520"/>
              <a:ext cx="85680" cy="68400"/>
            </a:xfrm>
            <a:custGeom>
              <a:avLst/>
              <a:gdLst/>
              <a:ahLst/>
              <a:rect l="l" t="t" r="r" b="b"/>
              <a:pathLst>
                <a:path w="192" h="169">
                  <a:moveTo>
                    <a:pt x="192" y="0"/>
                  </a:moveTo>
                  <a:lnTo>
                    <a:pt x="0" y="40"/>
                  </a:lnTo>
                  <a:lnTo>
                    <a:pt x="144" y="169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27840" y="5630400"/>
              <a:ext cx="71280" cy="78120"/>
            </a:xfrm>
            <a:custGeom>
              <a:avLst/>
              <a:gdLst/>
              <a:ahLst/>
              <a:rect l="l" t="t" r="r" b="b"/>
              <a:pathLst>
                <a:path w="160" h="192">
                  <a:moveTo>
                    <a:pt x="0" y="64"/>
                  </a:moveTo>
                  <a:lnTo>
                    <a:pt x="152" y="192"/>
                  </a:lnTo>
                  <a:lnTo>
                    <a:pt x="16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6651720" y="4649760"/>
            <a:ext cx="1008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75840" y="4599000"/>
            <a:ext cx="98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аза    да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515360" y="467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715080" y="4869000"/>
            <a:ext cx="69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тер  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33920" y="48448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05640" y="3900600"/>
            <a:ext cx="1099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771160" y="393372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равове пол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490800" y="393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атегії розвитку техніки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214200" y="1782720"/>
          <a:ext cx="3200400" cy="4533840"/>
        </p:xfrm>
        <a:graphic>
          <a:graphicData uri="http://schemas.openxmlformats.org/drawingml/2006/table">
            <a:tbl>
              <a:tblPr/>
              <a:tblGrid>
                <a:gridCol w="1032120"/>
                <a:gridCol w="988920"/>
                <a:gridCol w="11793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изна технологі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изна елементної ба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новаційний рівень техні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онерсь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онерсь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онерсь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ї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ї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ї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08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909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911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3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639960" y="1322280"/>
          <a:ext cx="4916520" cy="27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9960" y="1322280"/>
                    <a:ext cx="4916520" cy="27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196920" y="1279440"/>
            <a:ext cx="30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ІННОВАЦІЙНІ РІВНІ ТЕХНІ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4253040" y="3855960"/>
          <a:ext cx="4038480" cy="2881440"/>
        </p:xfrm>
        <a:graphic>
          <a:graphicData uri="http://schemas.openxmlformats.org/drawingml/2006/table">
            <a:tbl>
              <a:tblPr/>
              <a:tblGrid>
                <a:gridCol w="549000"/>
                <a:gridCol w="1721160"/>
                <a:gridCol w="17683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а стратегія (догоняюч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 стратегія (прорив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"/>
          <p:cNvSpPr/>
          <p:nvPr/>
        </p:nvSpPr>
        <p:spPr>
          <a:xfrm flipV="1">
            <a:off x="5105520" y="5654520"/>
            <a:ext cx="0" cy="5940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032520" y="5651280"/>
            <a:ext cx="0" cy="593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380200" y="5989680"/>
            <a:ext cx="122040" cy="13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575320" y="5986440"/>
            <a:ext cx="122040" cy="13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7035840" y="4885920"/>
            <a:ext cx="0" cy="132732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7816680" y="4853160"/>
            <a:ext cx="0" cy="132696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казники ефективності нової систем машин для рослинниц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936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938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50" name=""/>
          <p:cNvGraphicFramePr/>
          <p:nvPr/>
        </p:nvGraphicFramePr>
        <p:xfrm>
          <a:off x="250920" y="1003320"/>
          <a:ext cx="8659800" cy="5300640"/>
        </p:xfrm>
        <a:graphic>
          <a:graphicData uri="http://schemas.openxmlformats.org/drawingml/2006/table">
            <a:tbl>
              <a:tblPr/>
              <a:tblGrid>
                <a:gridCol w="2135160"/>
                <a:gridCol w="2703600"/>
                <a:gridCol w="1098360"/>
                <a:gridCol w="1233360"/>
                <a:gridCol w="148932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застос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ехні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ивність,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о-вкладенн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 грн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луатаційні витрати,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 гр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'єднання господар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тегрований компле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і колективні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і колективні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зовані комбайни великої потужност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і колективні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іалізовані комбайни середньої потужност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і фермерські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існі комбайни на енерго-насичених М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 типу ХТ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і фермерські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існі комбайни на середніх М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 типу ПМ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і фермерські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існі комбайни на малих М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 типу ХЗТ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мейні госпо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нітехні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адибні діля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би малої механіз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 схема ринку сільськогосподарської техні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953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955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7" name=""/>
          <p:cNvSpPr/>
          <p:nvPr/>
        </p:nvSpPr>
        <p:spPr>
          <a:xfrm>
            <a:off x="3273480" y="2862360"/>
            <a:ext cx="2808360" cy="2246040"/>
          </a:xfrm>
          <a:prstGeom prst="rect">
            <a:avLst/>
          </a:prstGeom>
          <a:solidFill>
            <a:srgbClr val="eb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авове п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rot="1941600">
            <a:off x="5452560" y="4444560"/>
            <a:ext cx="1035360" cy="434880"/>
          </a:xfrm>
          <a:prstGeom prst="rightArrow">
            <a:avLst>
              <a:gd name="adj1" fmla="val 50000"/>
              <a:gd name="adj2" fmla="val 59520"/>
            </a:avLst>
          </a:prstGeom>
          <a:solidFill>
            <a:srgbClr val="ffdd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 rot="19863000">
            <a:off x="3102840" y="4389480"/>
            <a:ext cx="1035000" cy="434880"/>
          </a:xfrm>
          <a:prstGeom prst="rightArrow">
            <a:avLst>
              <a:gd name="adj1" fmla="val 50000"/>
              <a:gd name="adj2" fmla="val 59499"/>
            </a:avLst>
          </a:prstGeom>
          <a:solidFill>
            <a:srgbClr val="ffdd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78640" y="3402000"/>
            <a:ext cx="583920" cy="542880"/>
          </a:xfrm>
          <a:prstGeom prst="leftArrow">
            <a:avLst>
              <a:gd name="adj1" fmla="val 50000"/>
              <a:gd name="adj2" fmla="val 26890"/>
            </a:avLst>
          </a:prstGeom>
          <a:solidFill>
            <a:srgbClr val="a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152880" y="3386160"/>
            <a:ext cx="774720" cy="542880"/>
          </a:xfrm>
          <a:prstGeom prst="leftArrow">
            <a:avLst>
              <a:gd name="adj1" fmla="val 50000"/>
              <a:gd name="adj2" fmla="val 35676"/>
            </a:avLst>
          </a:prstGeom>
          <a:solidFill>
            <a:srgbClr val="fb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745080" y="3111480"/>
            <a:ext cx="1977840" cy="1671480"/>
          </a:xfrm>
          <a:prstGeom prst="ellipse">
            <a:avLst/>
          </a:prstGeom>
          <a:gradFill rotWithShape="0">
            <a:gsLst>
              <a:gs pos="0">
                <a:srgbClr val="ebffff"/>
              </a:gs>
              <a:gs pos="100000">
                <a:srgbClr val="ffffc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782880" y="3262320"/>
            <a:ext cx="188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Ринок сільсько-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осподарської техні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76320" y="3187800"/>
            <a:ext cx="1281240" cy="1104840"/>
          </a:xfrm>
          <a:prstGeom prst="rect">
            <a:avLst/>
          </a:prstGeom>
          <a:solidFill>
            <a:srgbClr val="fb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ільське господарство  Украї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794200" y="1866960"/>
            <a:ext cx="1575000" cy="690480"/>
          </a:xfrm>
          <a:prstGeom prst="rect">
            <a:avLst/>
          </a:prstGeom>
          <a:solidFill>
            <a:srgbClr val="a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інпромполі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212920" y="1866960"/>
            <a:ext cx="1575000" cy="690480"/>
          </a:xfrm>
          <a:prstGeom prst="rect">
            <a:avLst/>
          </a:prstGeom>
          <a:solidFill>
            <a:srgbClr val="fb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інаграрної полі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546360" y="762120"/>
            <a:ext cx="2186280" cy="542880"/>
          </a:xfrm>
          <a:prstGeom prst="rect">
            <a:avLst/>
          </a:prstGeom>
          <a:gradFill rotWithShape="0">
            <a:gsLst>
              <a:gs pos="0">
                <a:srgbClr val="a5ffff"/>
              </a:gs>
              <a:gs pos="100000">
                <a:srgbClr val="fbffa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абінет Міністрів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873160" y="1324080"/>
            <a:ext cx="1701720" cy="53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651200" y="1324080"/>
            <a:ext cx="195588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20040" y="2557440"/>
            <a:ext cx="44424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428560" y="2579760"/>
            <a:ext cx="507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71640" y="4462560"/>
            <a:ext cx="1276200" cy="687240"/>
          </a:xfrm>
          <a:prstGeom prst="rect">
            <a:avLst/>
          </a:prstGeom>
          <a:solidFill>
            <a:srgbClr val="ffdd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спорт сіль-ськогосподар-ської техні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237360" y="4462560"/>
            <a:ext cx="1420920" cy="685800"/>
          </a:xfrm>
          <a:prstGeom prst="rect">
            <a:avLst/>
          </a:prstGeom>
          <a:solidFill>
            <a:srgbClr val="ffdd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мпорт  сіль-ськогосподар-ської техні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103560" y="2575080"/>
            <a:ext cx="9111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5324400" y="2554200"/>
            <a:ext cx="97632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89320" y="5248440"/>
            <a:ext cx="2792520" cy="1446120"/>
          </a:xfrm>
          <a:prstGeom prst="rect">
            <a:avLst/>
          </a:prstGeom>
          <a:solidFill>
            <a:srgbClr val="fb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rot="10800000">
            <a:off x="3375000" y="5418000"/>
            <a:ext cx="432000" cy="960480"/>
          </a:xfrm>
          <a:prstGeom prst="rect">
            <a:avLst/>
          </a:prstGeom>
          <a:solidFill>
            <a:srgbClr val="c9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анківська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rot="10800000">
            <a:off x="3922560" y="5418000"/>
            <a:ext cx="432000" cy="960480"/>
          </a:xfrm>
          <a:prstGeom prst="rect">
            <a:avLst/>
          </a:prstGeom>
          <a:solidFill>
            <a:srgbClr val="c9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ізингові компан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0800000">
            <a:off x="4471920" y="5418000"/>
            <a:ext cx="432000" cy="960480"/>
          </a:xfrm>
          <a:prstGeom prst="rect">
            <a:avLst/>
          </a:prstGeom>
          <a:solidFill>
            <a:srgbClr val="c9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стема страхув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600360" y="4700160"/>
            <a:ext cx="69876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4162320" y="4757760"/>
            <a:ext cx="38268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183280" y="4673160"/>
            <a:ext cx="57456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373880" y="220176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51880" y="2201760"/>
            <a:ext cx="0" cy="37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081480" y="5935680"/>
            <a:ext cx="167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1771560" y="222732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771560" y="2227320"/>
            <a:ext cx="0" cy="37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71560" y="5961240"/>
            <a:ext cx="149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989520" y="1886040"/>
            <a:ext cx="1574640" cy="690480"/>
          </a:xfrm>
          <a:prstGeom prst="rect">
            <a:avLst/>
          </a:prstGeom>
          <a:gradFill rotWithShape="0">
            <a:gsLst>
              <a:gs pos="0">
                <a:srgbClr val="a5ffff"/>
              </a:gs>
              <a:gs pos="100000">
                <a:srgbClr val="fbffa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ші мініст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735440" y="25830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743360" y="2690640"/>
            <a:ext cx="299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613400" y="1322280"/>
            <a:ext cx="0" cy="5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0800000">
            <a:off x="5019480" y="5418000"/>
            <a:ext cx="431640" cy="960480"/>
          </a:xfrm>
          <a:prstGeom prst="rect">
            <a:avLst/>
          </a:prstGeom>
          <a:solidFill>
            <a:srgbClr val="c9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стема серві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10800000">
            <a:off x="5568840" y="5418000"/>
            <a:ext cx="432000" cy="960480"/>
          </a:xfrm>
          <a:prstGeom prst="rect">
            <a:avLst/>
          </a:prstGeom>
          <a:solidFill>
            <a:srgbClr val="c9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илерська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668840" y="478116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 flipV="1">
            <a:off x="4941360" y="4757400"/>
            <a:ext cx="273240" cy="65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303720" y="3530520"/>
            <a:ext cx="5331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400560" y="4478400"/>
            <a:ext cx="558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88080" y="3554280"/>
            <a:ext cx="546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707080" y="4525920"/>
            <a:ext cx="6555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243480" y="3187800"/>
            <a:ext cx="1417680" cy="1049400"/>
          </a:xfrm>
          <a:prstGeom prst="rect">
            <a:avLst/>
          </a:prstGeom>
          <a:solidFill>
            <a:srgbClr val="a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тчизняні виробники сільськогоспо-дарської техні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виток людського потенціалу в промислов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014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016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187200" y="1376280"/>
            <a:ext cx="8705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системи підвищення кваліфікації та перепідготовки інженерно – управлінських кадрів (конструктори, технологи, енергетики, економісти, маркетологи, менеджери та інші). Потужність такої системи – 70 – 100 тисяч спеціалістів на р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системи підготовки та перепідготовки спеціалістів робочих професій. Потужність такої системи – 150-170 тисяч робітників на р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вищення рівня соціального забезпечення та заробітної пла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кріплення моло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74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76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163440" y="801720"/>
            <a:ext cx="898056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Системні невідповідності 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5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Єдині правил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до всіх суб'єктів С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5000"/>
              </a:lnSpc>
              <a:spcBef>
                <a:spcPts val="876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азові промислові та економічні категор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виробництво, баланс попиту-пропозицій, конкуренція, інновації та інвестиції, фінансові потоки)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переносяться з національного простору в наддержавний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 При цьому важелі впливу на ці процеси національних урядів практично відсутн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стосування єдиних правил системно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протирічи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вимогам інших течій глобалізаційних процесів, в першу чергу, щодо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сталого розвитк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велика відкрита система, якою, зокрема, в СОТ буде економіка України, має велику ймовірність підпасти під зовнішнє управління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400" y="18252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параметри макроекономічних умов ефективної діяльності промисло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031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033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45" name=""/>
          <p:cNvGraphicFramePr/>
          <p:nvPr/>
        </p:nvGraphicFramePr>
        <p:xfrm>
          <a:off x="0" y="1600200"/>
          <a:ext cx="9144000" cy="4809960"/>
        </p:xfrm>
        <a:graphic>
          <a:graphicData uri="http://schemas.openxmlformats.org/drawingml/2006/table">
            <a:tbl>
              <a:tblPr/>
              <a:tblGrid>
                <a:gridCol w="4572000"/>
                <a:gridCol w="1203480"/>
                <a:gridCol w="1403280"/>
                <a:gridCol w="1965240"/>
              </a:tblGrid>
              <a:tr h="313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 вимі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снуюч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іб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тість кредитних кошт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ше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кредитних кошт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 - 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ток на додану варт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ток з прибу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ування на заробітну пла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е фінансування науки, частка від бюдж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новаційний фонд, від обсягів виробниц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е фінансування розвитку промислов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е фінансування капітальних вкладень в промислов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"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–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кове забезпечення процесів формування і реалізації промислової політики з базовим фінансуванн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114560" y="-360"/>
            <a:ext cx="80294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уктура нормативно-правового забезпечення державної промислової політ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048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"/>
          <p:cNvSpPr/>
          <p:nvPr/>
        </p:nvSpPr>
        <p:spPr>
          <a:xfrm>
            <a:off x="6453360" y="2216160"/>
            <a:ext cx="2458800" cy="4141800"/>
          </a:xfrm>
          <a:prstGeom prst="rect">
            <a:avLst/>
          </a:prstGeom>
          <a:gradFill rotWithShape="0">
            <a:gsLst>
              <a:gs pos="0">
                <a:srgbClr val="fff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00ff"/>
            </a:solidFill>
            <a:miter/>
          </a:ln>
          <a:effectLst>
            <a:outerShdw dist="198339" dir="3009268" blurRad="0" rotWithShape="0">
              <a:srgbClr val="ff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и законів по регулюванню суміжних сф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465960" y="1125360"/>
            <a:ext cx="2458800" cy="59076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  <a:effectLst>
            <a:outerShdw dist="224707" dir="2559761" blurRad="0" rotWithShape="0">
              <a:srgbClr val="cc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ії державної політики  у суміжних сфе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801440" y="1703520"/>
            <a:ext cx="755640" cy="487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9920" y="2198520"/>
            <a:ext cx="2473200" cy="3270240"/>
          </a:xfrm>
          <a:prstGeom prst="rect">
            <a:avLst/>
          </a:prstGeom>
          <a:gradFill rotWithShape="0">
            <a:gsLst>
              <a:gs pos="0">
                <a:srgbClr val="f3ffff"/>
              </a:gs>
              <a:gs pos="100000">
                <a:srgbClr val="f3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координуючих програм розвитку промислов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79360" y="3376440"/>
            <a:ext cx="2171880" cy="798840"/>
          </a:xfrm>
          <a:prstGeom prst="rect">
            <a:avLst/>
          </a:prstGeom>
          <a:solidFill>
            <a:srgbClr val="e1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ржавна програма розвитку промисловості на 2003-2011 р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1960" y="4267080"/>
            <a:ext cx="2159280" cy="552600"/>
          </a:xfrm>
          <a:prstGeom prst="rect">
            <a:avLst/>
          </a:prstGeom>
          <a:gradFill rotWithShape="0">
            <a:gsLst>
              <a:gs pos="0">
                <a:srgbClr val="ffffe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стема державних міжгалузевих і галузев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гра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звитку промисловост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79360" y="4871880"/>
            <a:ext cx="2158920" cy="473400"/>
          </a:xfrm>
          <a:prstGeom prst="rect">
            <a:avLst/>
          </a:prstGeom>
          <a:gradFill rotWithShape="0">
            <a:gsLst>
              <a:gs pos="0">
                <a:srgbClr val="ffffe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стема міжрегіональних і регіональних  програм розвитку промисловост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79360" y="5730840"/>
            <a:ext cx="2268720" cy="600120"/>
          </a:xfrm>
          <a:prstGeom prst="rect">
            <a:avLst/>
          </a:prstGeom>
          <a:gradFill rotWithShape="0">
            <a:gsLst>
              <a:gs pos="0">
                <a:srgbClr val="e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стема стратегічних, перспективних та поточних план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409920" y="2198520"/>
            <a:ext cx="2362320" cy="3270240"/>
          </a:xfrm>
          <a:prstGeom prst="rect">
            <a:avLst/>
          </a:prstGeom>
          <a:gradFill rotWithShape="0">
            <a:gsLst>
              <a:gs pos="0">
                <a:srgbClr val="f3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законів про промислові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Промисловий кодекс Україн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578400" y="3394080"/>
            <a:ext cx="2047680" cy="820800"/>
          </a:xfrm>
          <a:prstGeom prst="rect">
            <a:avLst/>
          </a:prstGeom>
          <a:solidFill>
            <a:srgbClr val="e1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Закон про промисловість, Закон про управління промисловіст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616200" y="4281480"/>
            <a:ext cx="1960560" cy="446040"/>
          </a:xfrm>
          <a:prstGeom prst="rect">
            <a:avLst/>
          </a:prstGeom>
          <a:gradFill rotWithShape="0">
            <a:gsLst>
              <a:gs pos="0">
                <a:srgbClr val="ffffe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стема законів про галузі  і аспекти промисловост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616200" y="4819680"/>
            <a:ext cx="1984680" cy="460440"/>
          </a:xfrm>
          <a:prstGeom prst="rect">
            <a:avLst/>
          </a:prstGeom>
          <a:gradFill rotWithShape="0">
            <a:gsLst>
              <a:gs pos="0">
                <a:srgbClr val="ffffe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стема законів про  регіональні промислові комплекс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019320" y="1716120"/>
            <a:ext cx="828720" cy="4744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46640" y="5703840"/>
            <a:ext cx="2239920" cy="627120"/>
          </a:xfrm>
          <a:prstGeom prst="rect">
            <a:avLst/>
          </a:prstGeom>
          <a:gradFill rotWithShape="0">
            <a:gsLst>
              <a:gs pos="0">
                <a:srgbClr val="e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стема підзаконних актів про промислові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224240" y="1362240"/>
            <a:ext cx="2252880" cy="0"/>
          </a:xfrm>
          <a:prstGeom prst="line">
            <a:avLst/>
          </a:prstGeom>
          <a:ln w="1260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648480" y="3406680"/>
            <a:ext cx="2130480" cy="690480"/>
          </a:xfrm>
          <a:prstGeom prst="rect">
            <a:avLst/>
          </a:prstGeom>
          <a:solidFill>
            <a:srgbClr val="e1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альні закони про суміжні сф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648480" y="4281480"/>
            <a:ext cx="21430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кони про окремі аспекти і напрямки суміжних сф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672240" y="4871880"/>
            <a:ext cx="210672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кони про регіональні особливості суміжних сф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471760" y="3925800"/>
            <a:ext cx="115740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57440" y="6029280"/>
            <a:ext cx="87624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613480" y="3938760"/>
            <a:ext cx="100944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436760" y="5491080"/>
            <a:ext cx="0" cy="249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672240" y="5713560"/>
            <a:ext cx="21304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стема підзаконних актів про суміжні сфер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41760" y="5464080"/>
            <a:ext cx="0" cy="249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731000" y="5292720"/>
            <a:ext cx="0" cy="4078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696080" y="1716120"/>
            <a:ext cx="0" cy="4348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84360" y="4451400"/>
            <a:ext cx="115560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71760" y="5030640"/>
            <a:ext cx="115740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624640" y="4491000"/>
            <a:ext cx="101124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637240" y="5056200"/>
            <a:ext cx="101124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710320" y="6004080"/>
            <a:ext cx="94932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641600" y="1058760"/>
            <a:ext cx="2570040" cy="671760"/>
          </a:xfrm>
          <a:prstGeom prst="rect">
            <a:avLst/>
          </a:prstGeom>
          <a:gradFill rotWithShape="0">
            <a:gsLst>
              <a:gs pos="0">
                <a:srgbClr val="e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цепція державної промислової політики Украї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 flipH="1">
            <a:off x="3465360" y="1724040"/>
            <a:ext cx="1013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767120" y="1689120"/>
            <a:ext cx="336240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руктура системи програм розвитку промисло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098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100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2" name=""/>
          <p:cNvSpPr/>
          <p:nvPr/>
        </p:nvSpPr>
        <p:spPr>
          <a:xfrm>
            <a:off x="4440240" y="2422440"/>
            <a:ext cx="938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●  ● 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rot="10800000">
            <a:off x="70920" y="2165400"/>
            <a:ext cx="444600" cy="936720"/>
          </a:xfrm>
          <a:prstGeom prst="rect">
            <a:avLst/>
          </a:prstGeom>
          <a:solidFill>
            <a:srgbClr val="fff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виток у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93840" y="4344840"/>
            <a:ext cx="2930400" cy="2513160"/>
          </a:xfrm>
          <a:prstGeom prst="rect">
            <a:avLst/>
          </a:prstGeom>
          <a:gradFill rotWithShape="0">
            <a:gsLst>
              <a:gs pos="0">
                <a:srgbClr val="fff3f9"/>
              </a:gs>
              <a:gs pos="100000">
                <a:srgbClr val="fff3f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а розвитку умов діяльності промислов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ункціональні програми промислов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новаційного розвитку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ування ринків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іння корпоративними пра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гіональної політики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сурсозбереження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кономіки промисловості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вестиційної діяльності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інансово-кредитної полі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о-правового забезпеч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205160" y="3508200"/>
            <a:ext cx="4370400" cy="2482920"/>
          </a:xfrm>
          <a:prstGeom prst="rect">
            <a:avLst/>
          </a:prstGeom>
          <a:gradFill rotWithShape="0">
            <a:gsLst>
              <a:gs pos="0">
                <a:srgbClr val="ffddee"/>
              </a:gs>
              <a:gs pos="100000">
                <a:srgbClr val="fff5e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грама розвитку легкої і деревообробної промислов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029120" y="3726000"/>
            <a:ext cx="4370400" cy="2484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dffd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грама розвитку О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15800" y="2165400"/>
            <a:ext cx="2032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ціональна програма розвитку промислов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98360" y="3106800"/>
            <a:ext cx="1603440" cy="134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465200" y="3129120"/>
            <a:ext cx="3016440" cy="745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552680" y="3117960"/>
            <a:ext cx="2851200" cy="50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836880" y="3924360"/>
            <a:ext cx="4370400" cy="2482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fffe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грама розвитку хімічної промислов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603600" y="4124160"/>
            <a:ext cx="4370400" cy="2482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eb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грама розвитку гірничо-металургійного комплек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398760" y="4349880"/>
            <a:ext cx="4370400" cy="24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а розвитку машинобудування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втомобілебудування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●   ●   ●     Суднобудув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190520" y="3117960"/>
            <a:ext cx="2713320" cy="115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200240" y="3087720"/>
            <a:ext cx="2709720" cy="14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169040" y="3305160"/>
            <a:ext cx="1608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алузеві прог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1047600" y="1726920"/>
            <a:ext cx="328464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970360" y="2152800"/>
            <a:ext cx="14605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а розвитку А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670720" y="2165400"/>
            <a:ext cx="15872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а розвитку транспор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619520" y="1708200"/>
            <a:ext cx="165888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0080" y="6664320"/>
            <a:ext cx="4440240" cy="88920"/>
          </a:xfrm>
          <a:prstGeom prst="rect">
            <a:avLst/>
          </a:prstGeom>
          <a:solidFill>
            <a:srgbClr val="4f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40080" y="6134040"/>
            <a:ext cx="4440240" cy="90720"/>
          </a:xfrm>
          <a:prstGeom prst="rect">
            <a:avLst/>
          </a:prstGeom>
          <a:solidFill>
            <a:srgbClr val="4f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340080" y="5870520"/>
            <a:ext cx="4440240" cy="88920"/>
          </a:xfrm>
          <a:prstGeom prst="rect">
            <a:avLst/>
          </a:prstGeom>
          <a:solidFill>
            <a:srgbClr val="4f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340080" y="5605560"/>
            <a:ext cx="4440240" cy="90360"/>
          </a:xfrm>
          <a:prstGeom prst="rect">
            <a:avLst/>
          </a:prstGeom>
          <a:solidFill>
            <a:srgbClr val="4f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340080" y="5340240"/>
            <a:ext cx="4440240" cy="90720"/>
          </a:xfrm>
          <a:prstGeom prst="rect">
            <a:avLst/>
          </a:prstGeom>
          <a:solidFill>
            <a:srgbClr val="4f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340080" y="5076720"/>
            <a:ext cx="4440240" cy="90720"/>
          </a:xfrm>
          <a:prstGeom prst="rect">
            <a:avLst/>
          </a:prstGeom>
          <a:solidFill>
            <a:srgbClr val="4f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340080" y="6399360"/>
            <a:ext cx="4440240" cy="90360"/>
          </a:xfrm>
          <a:prstGeom prst="rect">
            <a:avLst/>
          </a:prstGeom>
          <a:solidFill>
            <a:srgbClr val="4f7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906720" y="5000760"/>
            <a:ext cx="104760" cy="18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856040" y="5000760"/>
            <a:ext cx="106560" cy="18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634000" y="5000760"/>
            <a:ext cx="104760" cy="18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373800" y="5000760"/>
            <a:ext cx="104760" cy="18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7237440" y="5013360"/>
            <a:ext cx="10476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03200" y="4352760"/>
            <a:ext cx="0" cy="247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44600" y="2664000"/>
            <a:ext cx="1887480" cy="41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галу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997360" y="2651040"/>
            <a:ext cx="1431720" cy="43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галу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rot="10800000">
            <a:off x="2590560" y="2165400"/>
            <a:ext cx="392040" cy="936720"/>
          </a:xfrm>
          <a:prstGeom prst="rect">
            <a:avLst/>
          </a:prstGeom>
          <a:solidFill>
            <a:srgbClr val="fff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в. у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686560" y="2664000"/>
            <a:ext cx="1542960" cy="406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галу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rot="10800000">
            <a:off x="5230800" y="2165400"/>
            <a:ext cx="442800" cy="936720"/>
          </a:xfrm>
          <a:prstGeom prst="rect">
            <a:avLst/>
          </a:prstGeom>
          <a:solidFill>
            <a:srgbClr val="fff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в. у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7593120" y="2178000"/>
            <a:ext cx="1511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грама розвитку регіон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670880" y="2664000"/>
            <a:ext cx="1298520" cy="431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регіон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10800000">
            <a:off x="7315200" y="2190600"/>
            <a:ext cx="341280" cy="936720"/>
          </a:xfrm>
          <a:prstGeom prst="rect">
            <a:avLst/>
          </a:prstGeom>
          <a:solidFill>
            <a:srgbClr val="fff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в. у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7767720" y="4280040"/>
            <a:ext cx="804960" cy="83808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7767720" y="4545000"/>
            <a:ext cx="804960" cy="83808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7767720" y="4809600"/>
            <a:ext cx="804960" cy="83844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7767720" y="5073120"/>
            <a:ext cx="804960" cy="83844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7767720" y="5338800"/>
            <a:ext cx="804960" cy="83808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7767720" y="5603400"/>
            <a:ext cx="804960" cy="83844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7767720" y="5866920"/>
            <a:ext cx="804960" cy="83844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311120" y="3106800"/>
            <a:ext cx="3165480" cy="9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03200" y="6816600"/>
            <a:ext cx="29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911320" y="1273320"/>
            <a:ext cx="3194280" cy="536400"/>
          </a:xfrm>
          <a:prstGeom prst="rect">
            <a:avLst/>
          </a:prstGeom>
          <a:gradFill rotWithShape="0">
            <a:gsLst>
              <a:gs pos="0">
                <a:srgbClr val="e1ffe1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грама діяльності Кабінету Міністрів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труктура Промислового кодек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164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166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"/>
          <p:cNvGrpSpPr/>
          <p:nvPr/>
        </p:nvGrpSpPr>
        <p:grpSpPr>
          <a:xfrm>
            <a:off x="142920" y="1011240"/>
            <a:ext cx="8891280" cy="5595840"/>
            <a:chOff x="142920" y="1011240"/>
            <a:chExt cx="8891280" cy="5595840"/>
          </a:xfrm>
        </p:grpSpPr>
        <p:sp>
          <p:nvSpPr>
            <p:cNvPr id="1179" name=""/>
            <p:cNvSpPr/>
            <p:nvPr/>
          </p:nvSpPr>
          <p:spPr>
            <a:xfrm>
              <a:off x="4238640" y="2171520"/>
              <a:ext cx="948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●  ●  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2920" y="4093920"/>
              <a:ext cx="2965680" cy="2513160"/>
            </a:xfrm>
            <a:prstGeom prst="rect">
              <a:avLst/>
            </a:prstGeom>
            <a:gradFill rotWithShape="0">
              <a:gsLst>
                <a:gs pos="0">
                  <a:srgbClr val="fff3f9"/>
                </a:gs>
                <a:gs pos="100000">
                  <a:srgbClr val="fff3f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Нормативно-правова база умов  діяльності промисловості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фери промисловості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інноваційного розвитку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ормування ринків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управління корпоративними правам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егіональної політик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есурсозбереження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економіки промисловості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інвестиційної діяльності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інансово-кредитної політик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рганізація законотворчої робо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999960" y="3257280"/>
              <a:ext cx="4425480" cy="2482920"/>
            </a:xfrm>
            <a:prstGeom prst="rect">
              <a:avLst/>
            </a:prstGeom>
            <a:gradFill rotWithShape="0">
              <a:gsLst>
                <a:gs pos="0">
                  <a:srgbClr val="ffddee"/>
                </a:gs>
                <a:gs pos="100000">
                  <a:srgbClr val="fff5e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рмативно-правова база легкої і деревообробної промислов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22120" y="3475080"/>
              <a:ext cx="4425120" cy="2484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dffd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рмативно-правова база О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64520" y="1915920"/>
              <a:ext cx="195552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кони Україн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Про промисловість"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"Про управління промисловістю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954360" y="2844720"/>
              <a:ext cx="613440" cy="135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227600" y="2878200"/>
              <a:ext cx="3051720" cy="745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315080" y="2867040"/>
              <a:ext cx="2886120" cy="50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27000" y="3673440"/>
              <a:ext cx="4425120" cy="248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efffe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рмативно-правова база хімічної промисловос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91200" y="3873240"/>
              <a:ext cx="4425120" cy="248292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eb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рмативно-правова база гірничо-металургійного комплекс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183480" y="4098960"/>
              <a:ext cx="442548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рмативно-правова база машинобудування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Автомобіле-будування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Судно-будуван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49680" y="2867040"/>
              <a:ext cx="2745720" cy="11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959040" y="2838240"/>
              <a:ext cx="274248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938880" y="1522440"/>
              <a:ext cx="319032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88760" y="1915920"/>
              <a:ext cx="166536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истема нормативно-правового забезпечення АП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3252240" y="1541520"/>
              <a:ext cx="105696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95800" y="1915920"/>
              <a:ext cx="193104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истема нормативно-правового забезпечення транспорт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420080" y="1536480"/>
              <a:ext cx="16794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24440" y="6413400"/>
              <a:ext cx="4495680" cy="88920"/>
            </a:xfrm>
            <a:prstGeom prst="rect">
              <a:avLst/>
            </a:prstGeom>
            <a:solidFill>
              <a:srgbClr val="4f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124440" y="5883120"/>
              <a:ext cx="4495680" cy="90720"/>
            </a:xfrm>
            <a:prstGeom prst="rect">
              <a:avLst/>
            </a:prstGeom>
            <a:solidFill>
              <a:srgbClr val="4f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124440" y="5619600"/>
              <a:ext cx="4495680" cy="88920"/>
            </a:xfrm>
            <a:prstGeom prst="rect">
              <a:avLst/>
            </a:prstGeom>
            <a:solidFill>
              <a:srgbClr val="4f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124440" y="5354640"/>
              <a:ext cx="4495680" cy="90360"/>
            </a:xfrm>
            <a:prstGeom prst="rect">
              <a:avLst/>
            </a:prstGeom>
            <a:solidFill>
              <a:srgbClr val="4f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124440" y="5089320"/>
              <a:ext cx="4495680" cy="90720"/>
            </a:xfrm>
            <a:prstGeom prst="rect">
              <a:avLst/>
            </a:prstGeom>
            <a:solidFill>
              <a:srgbClr val="4f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124440" y="4825800"/>
              <a:ext cx="4495680" cy="90720"/>
            </a:xfrm>
            <a:prstGeom prst="rect">
              <a:avLst/>
            </a:prstGeom>
            <a:solidFill>
              <a:srgbClr val="4f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124440" y="6148440"/>
              <a:ext cx="4495680" cy="90360"/>
            </a:xfrm>
            <a:prstGeom prst="rect">
              <a:avLst/>
            </a:prstGeom>
            <a:solidFill>
              <a:srgbClr val="4f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698640" y="4749840"/>
              <a:ext cx="105840" cy="180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660560" y="4749840"/>
              <a:ext cx="105840" cy="180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47160" y="4749840"/>
              <a:ext cx="105840" cy="180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96320" y="4749840"/>
              <a:ext cx="105840" cy="180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070400" y="4762440"/>
              <a:ext cx="105840" cy="180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51920" y="4101840"/>
              <a:ext cx="0" cy="247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73360" y="1915920"/>
              <a:ext cx="186084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истема нормативно-правового забезпечення регіоні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69840" y="1550880"/>
              <a:ext cx="340272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7607520" y="4029120"/>
              <a:ext cx="813240" cy="838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7607520" y="4294080"/>
              <a:ext cx="813240" cy="838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7607520" y="4558680"/>
              <a:ext cx="813240" cy="838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7607520" y="4822200"/>
              <a:ext cx="813240" cy="838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7607520" y="5087880"/>
              <a:ext cx="813240" cy="83808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7607520" y="5352480"/>
              <a:ext cx="813240" cy="838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7607520" y="5616000"/>
              <a:ext cx="813240" cy="83844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71720" y="2855880"/>
              <a:ext cx="3203280" cy="9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51920" y="6565680"/>
              <a:ext cx="297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9480" y="1011240"/>
              <a:ext cx="3234240" cy="536400"/>
            </a:xfrm>
            <a:prstGeom prst="rect">
              <a:avLst/>
            </a:prstGeom>
            <a:gradFill rotWithShape="0">
              <a:gsLst>
                <a:gs pos="0">
                  <a:srgbClr val="e1ffe1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ормативно-правова база Украї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інка ефективності стратегії та обсяги вкладень на її реалізаці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224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226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38" name=""/>
          <p:cNvGraphicFramePr/>
          <p:nvPr/>
        </p:nvGraphicFramePr>
        <p:xfrm>
          <a:off x="0" y="974880"/>
          <a:ext cx="8931240" cy="5833800"/>
        </p:xfrm>
        <a:graphic>
          <a:graphicData uri="http://schemas.openxmlformats.org/drawingml/2006/table">
            <a:tbl>
              <a:tblPr/>
              <a:tblGrid>
                <a:gridCol w="3809880"/>
                <a:gridCol w="731880"/>
                <a:gridCol w="960480"/>
                <a:gridCol w="914400"/>
                <a:gridCol w="868320"/>
                <a:gridCol w="822240"/>
                <a:gridCol w="8240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показ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яги вкла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е фінансування млрд. гр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1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1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овклад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1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замовл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1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и та інвестиції (в т.ч. державні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ні кошти (частка прибутк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а в інвестиціях всь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ість стратег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ходження до бюджету ПД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ходження до бюджету від прибу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хідний від зарпл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240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242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54" name=""/>
          <p:cNvGraphicFramePr/>
          <p:nvPr/>
        </p:nvGraphicFramePr>
        <p:xfrm>
          <a:off x="0" y="757080"/>
          <a:ext cx="9144000" cy="610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57080"/>
                    <a:ext cx="914400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90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92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3440" y="378000"/>
            <a:ext cx="898056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Більшість з переваг, які декларуються офіційними структурами СОТ, не завжди отримуються її новими членами. В першу чергу, це стосує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алансу зовнішньоекономічної діяльності. Часто зростає від'ємне сальд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ількість антидемпінгових розслідувань за останні роки в межах СОТ зростає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обсягів інвестицій в значній мірі нівелюється зростанням обсягів відтоку капіта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Внаслідок вступу до СОТ існують розширені можливості для розвитку в умовах світової конкуренції окремих підприємств, галузей і промисловості держави в цілому, але ефективність реалізації цих можливостей залежить не стільки від України, скільки від дій значної кількості інших країн, які мають свої власні цілі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66000" y="1647720"/>
            <a:ext cx="30780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новаці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руктури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31880"/>
            <a:ext cx="3292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ологіч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руктури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ітова технологічна та інноваційна  структуризація і місце в ній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93920"/>
            <a:ext cx="2744640" cy="1130400"/>
          </a:xfrm>
          <a:prstGeom prst="rect">
            <a:avLst/>
          </a:prstGeom>
          <a:solidFill>
            <a:srgbClr val="a9ff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Вищий рівень, ядро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: країни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G7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 Вони досягли фази постіндустрі-ального суспільства, а в їх національних економіках домінують виробництва 5 та 6 технологічного уклад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79760"/>
            <a:ext cx="2755800" cy="12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Другий рівен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- розвинені країни, які впроваджують новітні досягнення країн з ядра і співпрацюють з ними. Роль цих країн у глобальних процесах і прибутковість їх економік значно менша, ніж країн вищого рів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43440"/>
            <a:ext cx="2757600" cy="2014560"/>
          </a:xfrm>
          <a:prstGeom prst="rect">
            <a:avLst/>
          </a:prstGeom>
          <a:solidFill>
            <a:srgbClr val="ffd3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Третій рівень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- країни, що розвиваються. Їм відведена пасивна роль країн "додаткової економіки", постачальників сировини  продукції з низьким рівнем переробки. У них впроваджуються технології, що, як відпрацьовані, часто застарілі та екологічно шкідливі, передаються з країн  другого та першого рівн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4320" y="5478480"/>
            <a:ext cx="3532320" cy="1379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Україна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не підпадає під таку структури-зацію. Є виробництва які характерні для ядра (авіакосмічне, мікробіологічне), другого рівня (обробна, хімічна промисло-вість) і третього рівня (гірничо-металур-гійна промисловість, поставка сировин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13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15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4618080" y="3687840"/>
            <a:ext cx="24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510240" y="2236680"/>
            <a:ext cx="2633760" cy="4644000"/>
            <a:chOff x="6510240" y="2236680"/>
            <a:chExt cx="2633760" cy="4644000"/>
          </a:xfrm>
        </p:grpSpPr>
        <p:sp>
          <p:nvSpPr>
            <p:cNvPr id="129" name=""/>
            <p:cNvSpPr/>
            <p:nvPr/>
          </p:nvSpPr>
          <p:spPr>
            <a:xfrm>
              <a:off x="6510240" y="2236680"/>
              <a:ext cx="2621160" cy="720360"/>
            </a:xfrm>
            <a:prstGeom prst="rect">
              <a:avLst/>
            </a:prstGeom>
            <a:solidFill>
              <a:srgbClr val="86f2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0000"/>
                  </a:solidFill>
                  <a:latin typeface="Arial"/>
                </a:rPr>
                <a:t>Лідери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США, Японія, Швеція, Німеччина...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3200" y="3852000"/>
              <a:ext cx="2620800" cy="1158840"/>
            </a:xfrm>
            <a:prstGeom prst="rect">
              <a:avLst/>
            </a:prstGeom>
            <a:gradFill rotWithShape="0">
              <a:gsLst>
                <a:gs pos="0">
                  <a:srgbClr val="f8ff65"/>
                </a:gs>
                <a:gs pos="100000">
                  <a:srgbClr val="75f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0000"/>
                  </a:solidFill>
                  <a:latin typeface="Arial"/>
                </a:rPr>
                <a:t>Країни, що сприймають первинні інновації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Уругвай, Китай, Бразилія, Єгипет, Індія...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23200" y="5054760"/>
              <a:ext cx="2620800" cy="988560"/>
            </a:xfrm>
            <a:prstGeom prst="rect">
              <a:avLst/>
            </a:prstGeom>
            <a:solidFill>
              <a:srgbClr val="75ff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0000"/>
                  </a:solidFill>
                  <a:latin typeface="Arial"/>
                </a:rPr>
                <a:t>Країни, що сприймають вторинні інновації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Нікарагуа, Пакистан...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23200" y="3013200"/>
              <a:ext cx="2620800" cy="786960"/>
            </a:xfrm>
            <a:prstGeom prst="rect">
              <a:avLst/>
            </a:prstGeom>
            <a:gradFill rotWithShape="0">
              <a:gsLst>
                <a:gs pos="0">
                  <a:srgbClr val="86f2e8"/>
                </a:gs>
                <a:gs pos="100000">
                  <a:srgbClr val="f8ff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0000"/>
                  </a:solidFill>
                  <a:latin typeface="Arial"/>
                </a:rPr>
                <a:t>Потенційні лідери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Іспанія, Італія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Чехія, Польща, Мексика,...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6093720"/>
              <a:ext cx="2620800" cy="78696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0000"/>
                  </a:solidFill>
                  <a:latin typeface="Arial"/>
                </a:rPr>
                <a:t>Інші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Білорусь, Росія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Монголія, ...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268800" y="2446200"/>
            <a:ext cx="2867040" cy="2880000"/>
          </a:xfrm>
          <a:prstGeom prst="ellipse">
            <a:avLst/>
          </a:prstGeom>
          <a:solidFill>
            <a:srgbClr val="ffb5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67120" y="3046320"/>
            <a:ext cx="1670040" cy="1679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525840"/>
            <a:ext cx="716040" cy="719280"/>
          </a:xfrm>
          <a:prstGeom prst="ellipse">
            <a:avLst/>
          </a:prstGeom>
          <a:solidFill>
            <a:srgbClr val="a9ff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08560" y="3581280"/>
            <a:ext cx="817560" cy="1157400"/>
          </a:xfrm>
          <a:custGeom>
            <a:avLst/>
            <a:gdLst/>
            <a:ahLst/>
            <a:rect l="l" t="t" r="r" b="b"/>
            <a:pathLst>
              <a:path w="388" h="547">
                <a:moveTo>
                  <a:pt x="0" y="182"/>
                </a:moveTo>
                <a:cubicBezTo>
                  <a:pt x="114" y="176"/>
                  <a:pt x="96" y="201"/>
                  <a:pt x="192" y="144"/>
                </a:cubicBezTo>
                <a:cubicBezTo>
                  <a:pt x="288" y="87"/>
                  <a:pt x="278" y="77"/>
                  <a:pt x="345" y="0"/>
                </a:cubicBezTo>
                <a:cubicBezTo>
                  <a:pt x="381" y="132"/>
                  <a:pt x="388" y="99"/>
                  <a:pt x="388" y="177"/>
                </a:cubicBezTo>
                <a:cubicBezTo>
                  <a:pt x="388" y="255"/>
                  <a:pt x="370" y="339"/>
                  <a:pt x="334" y="423"/>
                </a:cubicBezTo>
                <a:cubicBezTo>
                  <a:pt x="298" y="507"/>
                  <a:pt x="294" y="469"/>
                  <a:pt x="240" y="547"/>
                </a:cubicBezTo>
                <a:cubicBezTo>
                  <a:pt x="211" y="403"/>
                  <a:pt x="221" y="384"/>
                  <a:pt x="163" y="298"/>
                </a:cubicBezTo>
                <a:cubicBezTo>
                  <a:pt x="105" y="212"/>
                  <a:pt x="120" y="242"/>
                  <a:pt x="0" y="182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2440" y="3481560"/>
            <a:ext cx="1389240" cy="1282680"/>
          </a:xfrm>
          <a:custGeom>
            <a:avLst/>
            <a:gdLst/>
            <a:ahLst/>
            <a:rect l="l" t="t" r="r" b="b"/>
            <a:pathLst>
              <a:path w="1650" h="1515">
                <a:moveTo>
                  <a:pt x="0" y="510"/>
                </a:moveTo>
                <a:cubicBezTo>
                  <a:pt x="285" y="495"/>
                  <a:pt x="585" y="480"/>
                  <a:pt x="885" y="390"/>
                </a:cubicBezTo>
                <a:cubicBezTo>
                  <a:pt x="1185" y="300"/>
                  <a:pt x="1365" y="150"/>
                  <a:pt x="1560" y="0"/>
                </a:cubicBezTo>
                <a:cubicBezTo>
                  <a:pt x="1650" y="330"/>
                  <a:pt x="1635" y="360"/>
                  <a:pt x="1635" y="555"/>
                </a:cubicBezTo>
                <a:cubicBezTo>
                  <a:pt x="1635" y="750"/>
                  <a:pt x="1590" y="960"/>
                  <a:pt x="1500" y="1170"/>
                </a:cubicBezTo>
                <a:cubicBezTo>
                  <a:pt x="1410" y="1380"/>
                  <a:pt x="1425" y="1320"/>
                  <a:pt x="1290" y="1515"/>
                </a:cubicBezTo>
                <a:cubicBezTo>
                  <a:pt x="1110" y="1290"/>
                  <a:pt x="1040" y="1143"/>
                  <a:pt x="825" y="975"/>
                </a:cubicBezTo>
                <a:cubicBezTo>
                  <a:pt x="610" y="807"/>
                  <a:pt x="300" y="660"/>
                  <a:pt x="0" y="510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61000" y="3454560"/>
            <a:ext cx="1403280" cy="1326960"/>
          </a:xfrm>
          <a:custGeom>
            <a:avLst/>
            <a:gdLst/>
            <a:ahLst/>
            <a:rect l="l" t="t" r="r" b="b"/>
            <a:pathLst>
              <a:path w="666" h="628">
                <a:moveTo>
                  <a:pt x="0" y="226"/>
                </a:moveTo>
                <a:cubicBezTo>
                  <a:pt x="112" y="134"/>
                  <a:pt x="159" y="105"/>
                  <a:pt x="275" y="67"/>
                </a:cubicBezTo>
                <a:cubicBezTo>
                  <a:pt x="391" y="29"/>
                  <a:pt x="493" y="16"/>
                  <a:pt x="630" y="0"/>
                </a:cubicBezTo>
                <a:cubicBezTo>
                  <a:pt x="666" y="132"/>
                  <a:pt x="654" y="166"/>
                  <a:pt x="654" y="244"/>
                </a:cubicBezTo>
                <a:cubicBezTo>
                  <a:pt x="654" y="322"/>
                  <a:pt x="636" y="406"/>
                  <a:pt x="600" y="490"/>
                </a:cubicBezTo>
                <a:cubicBezTo>
                  <a:pt x="564" y="574"/>
                  <a:pt x="570" y="550"/>
                  <a:pt x="516" y="628"/>
                </a:cubicBezTo>
                <a:cubicBezTo>
                  <a:pt x="400" y="575"/>
                  <a:pt x="343" y="566"/>
                  <a:pt x="227" y="479"/>
                </a:cubicBezTo>
                <a:cubicBezTo>
                  <a:pt x="111" y="392"/>
                  <a:pt x="103" y="345"/>
                  <a:pt x="0" y="226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76600" y="3740040"/>
            <a:ext cx="4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13320" y="310500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11520" y="25779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8840" y="2346480"/>
            <a:ext cx="8640720" cy="3163320"/>
          </a:xfrm>
          <a:prstGeom prst="rect">
            <a:avLst/>
          </a:prstGeom>
          <a:solidFill>
            <a:srgbClr val="fc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світі відбувається нова структуризація. Положення кожної країни в новій структурі визначається її спроможністю до породження, швидкого, масового і ефективного застосування нових знань та похідних від них, здатних кардинально змінювати життя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728440" y="2790360"/>
            <a:ext cx="1729080" cy="10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752200" y="3769920"/>
            <a:ext cx="131940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766960" y="4276440"/>
            <a:ext cx="992160" cy="12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6560" y="4100400"/>
            <a:ext cx="9828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4680" y="6278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УКРАЇ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09840" y="1496880"/>
            <a:ext cx="4344840" cy="703800"/>
          </a:xfrm>
          <a:prstGeom prst="rect">
            <a:avLst/>
          </a:prstGeom>
          <a:solidFill>
            <a:srgbClr val="ff6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снуюча тенденція – витиснення України в третє коло (рів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95440" y="1373040"/>
            <a:ext cx="4419720" cy="870480"/>
          </a:xfrm>
          <a:prstGeom prst="rect">
            <a:avLst/>
          </a:prstGeom>
          <a:solidFill>
            <a:srgbClr val="75ff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та розвитку – гармонійна економіка з поступовим переходом до другого кола (рів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3.33333E-006 -0.44676 E">
                                      <p:cBhvr>
                                        <p:cTn id="73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7437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робничо-торгова та владно-власнісна структури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53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55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182520" y="2327400"/>
            <a:ext cx="5867280" cy="4348080"/>
          </a:xfrm>
          <a:prstGeom prst="rect">
            <a:avLst/>
          </a:prstGeom>
          <a:solidFill>
            <a:srgbClr val="b9e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авове поле С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120" y="2487600"/>
            <a:ext cx="3056040" cy="1246320"/>
          </a:xfrm>
          <a:prstGeom prst="rect">
            <a:avLst/>
          </a:prstGeom>
          <a:solidFill>
            <a:srgbClr val="6d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ї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120" y="3859200"/>
            <a:ext cx="4276800" cy="1246320"/>
          </a:xfrm>
          <a:prstGeom prst="rect">
            <a:avLst/>
          </a:prstGeom>
          <a:solidFill>
            <a:srgbClr val="fa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инені 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1120" y="5232240"/>
            <a:ext cx="5303880" cy="1246320"/>
          </a:xfrm>
          <a:prstGeom prst="rect">
            <a:avLst/>
          </a:prstGeom>
          <a:solidFill>
            <a:srgbClr val="fea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їни, що розвиваю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62240" y="1157400"/>
            <a:ext cx="1220760" cy="1077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4760" y="1096920"/>
            <a:ext cx="1413000" cy="1141560"/>
          </a:xfrm>
          <a:prstGeom prst="triangle">
            <a:avLst>
              <a:gd name="adj" fmla="val 50000"/>
            </a:avLst>
          </a:prstGeom>
          <a:solidFill>
            <a:srgbClr val="fe6f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44960" y="4681440"/>
            <a:ext cx="1235160" cy="976320"/>
          </a:xfrm>
          <a:prstGeom prst="rect">
            <a:avLst/>
          </a:prstGeom>
          <a:gradFill rotWithShape="0">
            <a:gsLst>
              <a:gs pos="0">
                <a:srgbClr val="f8ff65"/>
              </a:gs>
              <a:gs pos="100000">
                <a:srgbClr val="6df1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краї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3520" y="136512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Т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6160" y="4710240"/>
            <a:ext cx="2314800" cy="968400"/>
          </a:xfrm>
          <a:prstGeom prst="rect">
            <a:avLst/>
          </a:prstGeom>
          <a:gradFill rotWithShape="0">
            <a:gsLst>
              <a:gs pos="0">
                <a:srgbClr val="faff99"/>
              </a:gs>
              <a:gs pos="100000">
                <a:srgbClr val="fea9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їни РЕВ та С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9600" y="0"/>
            <a:ext cx="8204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новні характеристики концептуальних доктрин розвитку промисло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78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80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92" name=""/>
          <p:cNvGraphicFramePr/>
          <p:nvPr/>
        </p:nvGraphicFramePr>
        <p:xfrm>
          <a:off x="61920" y="1362240"/>
          <a:ext cx="9029520" cy="5371920"/>
        </p:xfrm>
        <a:graphic>
          <a:graphicData uri="http://schemas.openxmlformats.org/drawingml/2006/table">
            <a:tbl>
              <a:tblPr/>
              <a:tblGrid>
                <a:gridCol w="2011320"/>
                <a:gridCol w="3036960"/>
                <a:gridCol w="3981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ійна докт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 докт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вень визначення ме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мислові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успільст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ність ме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абілізація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ункціонування промисловост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звиток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спільства, вихід держави до рівня передових технологічно розвинених краї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лях досягнення ме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формаційний-</a:t>
                      </a:r>
                      <a:r>
                        <a:rPr b="1" lang="uk-UA" sz="17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мусов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формаційно-</a:t>
                      </a:r>
                      <a:r>
                        <a:rPr b="1" lang="uk-UA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имулюючий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рискорено-еволюцій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досягнення ме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державлення, приватизація, реструктуризаці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вання, реформування, інкубація і вирощуван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струментарі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дміністративний вплив</a:t>
                      </a: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 нормативно-правовою підтримкою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инкова самоорганізація з державним регулювання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іяні об'єк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ислові </a:t>
                      </a:r>
                      <a:r>
                        <a:rPr b="1" lang="uk-UA" sz="17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алуз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ислові </a:t>
                      </a:r>
                      <a:r>
                        <a:rPr b="1" lang="uk-UA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клади, сектори економі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'язки з суміжними секторами економі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гламентован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грамовані, динамічн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19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ль і місце промисловості в суспільств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195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197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0" y="1426680"/>
            <a:ext cx="5300280" cy="4913640"/>
            <a:chOff x="0" y="1426680"/>
            <a:chExt cx="5300280" cy="4913640"/>
          </a:xfrm>
        </p:grpSpPr>
        <p:grpSp>
          <p:nvGrpSpPr>
            <p:cNvPr id="210" name=""/>
            <p:cNvGrpSpPr/>
            <p:nvPr/>
          </p:nvGrpSpPr>
          <p:grpSpPr>
            <a:xfrm>
              <a:off x="449280" y="1529640"/>
              <a:ext cx="2973960" cy="2973960"/>
              <a:chOff x="449280" y="1529640"/>
              <a:chExt cx="2973960" cy="2973960"/>
            </a:xfrm>
          </p:grpSpPr>
          <p:sp>
            <p:nvSpPr>
              <p:cNvPr id="211" name=""/>
              <p:cNvSpPr/>
              <p:nvPr/>
            </p:nvSpPr>
            <p:spPr>
              <a:xfrm flipH="1" rot="2700000">
                <a:off x="449280" y="2399760"/>
                <a:ext cx="2972880" cy="1233000"/>
              </a:xfrm>
              <a:prstGeom prst="ellipse">
                <a:avLst/>
              </a:prstGeom>
              <a:solidFill>
                <a:srgbClr val="fece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 rot="2700000">
                <a:off x="855720" y="2313360"/>
                <a:ext cx="923040" cy="201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Фінанси</a:t>
                </a:r>
                <a:endParaRPr b="0" lang="en-US" sz="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3326760"/>
              <a:ext cx="2802960" cy="1072440"/>
              <a:chOff x="0" y="3326760"/>
              <a:chExt cx="2802960" cy="107244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0" y="3326760"/>
                <a:ext cx="2802960" cy="1072440"/>
              </a:xfrm>
              <a:prstGeom prst="ellipse">
                <a:avLst/>
              </a:prstGeom>
              <a:solidFill>
                <a:srgbClr val="c6fc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120600" y="3759480"/>
                <a:ext cx="1158840" cy="244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Техносфера</a:t>
                </a:r>
                <a:endParaRPr b="0" lang="en-US" sz="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80880" y="3282120"/>
              <a:ext cx="2818800" cy="2818440"/>
              <a:chOff x="380880" y="3282120"/>
              <a:chExt cx="2818800" cy="2818440"/>
            </a:xfrm>
          </p:grpSpPr>
          <p:sp>
            <p:nvSpPr>
              <p:cNvPr id="217" name=""/>
              <p:cNvSpPr/>
              <p:nvPr/>
            </p:nvSpPr>
            <p:spPr>
              <a:xfrm flipH="1" rot="18900000">
                <a:off x="411840" y="4076280"/>
                <a:ext cx="2756520" cy="1229760"/>
              </a:xfrm>
              <a:prstGeom prst="ellipse">
                <a:avLst/>
              </a:prstGeom>
              <a:solidFill>
                <a:srgbClr val="bcfe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 rot="18900000">
                <a:off x="776160" y="4738320"/>
                <a:ext cx="1446480" cy="488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Соціальна</a:t>
                </a:r>
                <a:endParaRPr b="0" lang="en-US" sz="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сфера</a:t>
                </a:r>
                <a:endParaRPr b="0" lang="en-US" sz="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067840" y="3584160"/>
              <a:ext cx="1346760" cy="2756160"/>
              <a:chOff x="2067840" y="3584160"/>
              <a:chExt cx="1346760" cy="2756160"/>
            </a:xfrm>
          </p:grpSpPr>
          <p:sp>
            <p:nvSpPr>
              <p:cNvPr id="220" name=""/>
              <p:cNvSpPr/>
              <p:nvPr/>
            </p:nvSpPr>
            <p:spPr>
              <a:xfrm rot="5400000">
                <a:off x="1362960" y="4288680"/>
                <a:ext cx="2756160" cy="1346760"/>
              </a:xfrm>
              <a:prstGeom prst="ellipse">
                <a:avLst/>
              </a:prstGeom>
              <a:solidFill>
                <a:srgbClr val="fc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 rot="5400000">
                <a:off x="2764800" y="4527360"/>
                <a:ext cx="887760" cy="487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Наука,</a:t>
                </a:r>
                <a:endParaRPr b="0" lang="en-US" sz="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Освіта</a:t>
                </a:r>
                <a:endParaRPr b="0" lang="en-US" sz="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 rot="2700000">
              <a:off x="2233440" y="4012200"/>
              <a:ext cx="2756160" cy="1192320"/>
            </a:xfrm>
            <a:prstGeom prst="ellipse">
              <a:avLst/>
            </a:prstGeom>
            <a:solidFill>
              <a:srgbClr val="ebf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2700000">
              <a:off x="3382920" y="4857480"/>
              <a:ext cx="1146960" cy="28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косфера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497320" y="3335040"/>
              <a:ext cx="2802960" cy="1106640"/>
              <a:chOff x="2497320" y="3335040"/>
              <a:chExt cx="2802960" cy="1106640"/>
            </a:xfrm>
          </p:grpSpPr>
          <p:sp>
            <p:nvSpPr>
              <p:cNvPr id="225" name=""/>
              <p:cNvSpPr/>
              <p:nvPr/>
            </p:nvSpPr>
            <p:spPr>
              <a:xfrm>
                <a:off x="2497320" y="3335040"/>
                <a:ext cx="2802960" cy="1106640"/>
              </a:xfrm>
              <a:prstGeom prst="ellipse">
                <a:avLst/>
              </a:prstGeom>
              <a:solidFill>
                <a:srgbClr val="ebff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3972240" y="3731760"/>
                <a:ext cx="1158120" cy="235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Бюджет</a:t>
                </a:r>
                <a:endParaRPr b="0" lang="en-US" sz="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234160" y="1655280"/>
              <a:ext cx="2778120" cy="2778120"/>
              <a:chOff x="2234160" y="1655280"/>
              <a:chExt cx="2778120" cy="2778120"/>
            </a:xfrm>
          </p:grpSpPr>
          <p:sp>
            <p:nvSpPr>
              <p:cNvPr id="228" name=""/>
              <p:cNvSpPr/>
              <p:nvPr/>
            </p:nvSpPr>
            <p:spPr>
              <a:xfrm rot="18900000">
                <a:off x="2221560" y="2481480"/>
                <a:ext cx="2802960" cy="1125720"/>
              </a:xfrm>
              <a:prstGeom prst="ellipse">
                <a:avLst/>
              </a:prstGeom>
              <a:solidFill>
                <a:srgbClr val="efff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 rot="18900000">
                <a:off x="3493440" y="2448000"/>
                <a:ext cx="1229760" cy="234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324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Економіка</a:t>
                </a:r>
                <a:endParaRPr b="0" lang="en-US" sz="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rot="16200000">
              <a:off x="1308960" y="2189520"/>
              <a:ext cx="2890440" cy="1364400"/>
            </a:xfrm>
            <a:prstGeom prst="ellipse">
              <a:avLst/>
            </a:prstGeom>
            <a:solidFill>
              <a:srgbClr val="ffed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 rot="16200000">
              <a:off x="2165040" y="2402640"/>
              <a:ext cx="1209960" cy="27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егіон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05440" y="3253320"/>
              <a:ext cx="903600" cy="939240"/>
            </a:xfrm>
            <a:prstGeom prst="ellipse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73040" y="3336840"/>
              <a:ext cx="10051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-мислові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39840" y="627120"/>
            <a:ext cx="7716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Роль промислових підприємств у цих сферах є основною (системоутворюючою):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48440" y="1289160"/>
            <a:ext cx="363348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економіці вони – базис, центр утворення її головної категорії вартості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бюджетній сфері – джерела наповне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територіальній – містоутворювачі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науковій та освітній – рушії розвитку, споживачі та джерела знан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соціальній сфері – місця реалізації людських можливостей, забезпечення засобами існува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техносфері – виробники техніки, машин та іншої продукції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фінансовій – мультиплікатори гро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6108840"/>
            <a:ext cx="89438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Інші елементи вказаних сфер по відношенню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промислових підприємств є інфраструктурними (допоміжні, забезпечуючи, тощо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c9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84240" y="-360"/>
            <a:ext cx="815976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ль і місце промисловості в соціально-економічних відношенн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1280" y="71280"/>
            <a:ext cx="1158840" cy="718920"/>
            <a:chOff x="71280" y="71280"/>
            <a:chExt cx="1158840" cy="718920"/>
          </a:xfrm>
        </p:grpSpPr>
        <p:sp>
          <p:nvSpPr>
            <p:cNvPr id="239" name=""/>
            <p:cNvSpPr/>
            <p:nvPr/>
          </p:nvSpPr>
          <p:spPr>
            <a:xfrm>
              <a:off x="71280" y="71280"/>
              <a:ext cx="1158840" cy="718920"/>
            </a:xfrm>
            <a:prstGeom prst="rect">
              <a:avLst/>
            </a:prstGeom>
            <a:gradFill rotWithShape="0">
              <a:gsLst>
                <a:gs pos="0">
                  <a:srgbClr val="acd3f0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74600" y="123480"/>
              <a:ext cx="582480" cy="609840"/>
              <a:chOff x="174600" y="123480"/>
              <a:chExt cx="582480" cy="609840"/>
            </a:xfrm>
          </p:grpSpPr>
          <p:sp>
            <p:nvSpPr>
              <p:cNvPr id="241" name=""/>
              <p:cNvSpPr/>
              <p:nvPr/>
            </p:nvSpPr>
            <p:spPr>
              <a:xfrm>
                <a:off x="174600" y="123480"/>
                <a:ext cx="582480" cy="60984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0880" y="245520"/>
                <a:ext cx="349920" cy="36612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29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2120" y="519840"/>
                <a:ext cx="117000" cy="1227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7160" y="123480"/>
                <a:ext cx="117000" cy="12240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6680" y="153720"/>
                <a:ext cx="58680" cy="61560"/>
              </a:xfrm>
              <a:prstGeom prst="ellipse">
                <a:avLst/>
              </a:pr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32560" y="18252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465840" y="182880"/>
                <a:ext cx="23328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5840" y="245520"/>
                <a:ext cx="0" cy="152640"/>
              </a:xfrm>
              <a:prstGeom prst="line">
                <a:avLst/>
              </a:prstGeom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320400" y="274320"/>
                <a:ext cx="29088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eefa5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824120" y="1731960"/>
            <a:ext cx="6151320" cy="4210200"/>
          </a:xfrm>
          <a:prstGeom prst="rect">
            <a:avLst/>
          </a:prstGeom>
          <a:solidFill>
            <a:srgbClr val="f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ьний сектор економі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015640" y="2122200"/>
            <a:ext cx="569880" cy="1795320"/>
          </a:xfrm>
          <a:prstGeom prst="rect">
            <a:avLst/>
          </a:prstGeom>
          <a:gradFill rotWithShape="0">
            <a:gsLst>
              <a:gs pos="0">
                <a:srgbClr val="ffffc5"/>
              </a:gs>
              <a:gs pos="100000">
                <a:srgbClr val="e1ffe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1279440" y="2646000"/>
            <a:ext cx="71280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00320" y="2063880"/>
            <a:ext cx="4734000" cy="2998800"/>
          </a:xfrm>
          <a:prstGeom prst="rect">
            <a:avLst/>
          </a:prstGeom>
          <a:solidFill>
            <a:srgbClr val="ff99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мислов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7920" y="2473200"/>
            <a:ext cx="162396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ільгоспмашинобудува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607840" y="2457360"/>
            <a:ext cx="531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0880" y="4243320"/>
            <a:ext cx="167616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гпром, ТНП, Авто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60880" y="3306600"/>
            <a:ext cx="165708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імічна промислові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1298520" y="4557240"/>
            <a:ext cx="183672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292400" y="2955600"/>
            <a:ext cx="725400" cy="1260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279440" y="4787640"/>
            <a:ext cx="1871640" cy="3492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155520" y="1684080"/>
            <a:ext cx="1147680" cy="4257720"/>
          </a:xfrm>
          <a:prstGeom prst="rect">
            <a:avLst/>
          </a:prstGeom>
          <a:solidFill>
            <a:srgbClr val="79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і госпо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579600" y="1695600"/>
            <a:ext cx="699840" cy="2427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9600" y="4133880"/>
            <a:ext cx="712800" cy="1011240"/>
          </a:xfrm>
          <a:prstGeom prst="rect">
            <a:avLst/>
          </a:prstGeom>
          <a:solidFill>
            <a:srgbClr val="ff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603520" y="3045960"/>
            <a:ext cx="544320" cy="3492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01720" y="3605040"/>
            <a:ext cx="531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0800000">
            <a:off x="5786280" y="2473200"/>
            <a:ext cx="965520" cy="240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лургій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і добувни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6883560" y="2517480"/>
            <a:ext cx="86040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ивно-енергетични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78080" y="5311800"/>
            <a:ext cx="447192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фраструктурні галузі: транспорт, зв'язок, будівництво, торгівля, по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328760" y="5371920"/>
            <a:ext cx="183672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308240" y="5601960"/>
            <a:ext cx="1873080" cy="3636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917640" y="1197000"/>
            <a:ext cx="1160280" cy="820800"/>
            <a:chOff x="917640" y="1197000"/>
            <a:chExt cx="1160280" cy="820800"/>
          </a:xfrm>
        </p:grpSpPr>
        <p:sp>
          <p:nvSpPr>
            <p:cNvPr id="275" name=""/>
            <p:cNvSpPr/>
            <p:nvPr/>
          </p:nvSpPr>
          <p:spPr>
            <a:xfrm>
              <a:off x="917640" y="1197000"/>
              <a:ext cx="1160280" cy="820800"/>
            </a:xfrm>
            <a:prstGeom prst="rect">
              <a:avLst/>
            </a:prstGeom>
            <a:solidFill>
              <a:srgbClr val="ffff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6600" y="1303920"/>
              <a:ext cx="1014840" cy="618840"/>
            </a:xfrm>
            <a:custGeom>
              <a:avLst/>
              <a:gdLst/>
              <a:ahLst/>
              <a:rect l="l" t="t" r="r" b="b"/>
              <a:pathLst>
                <a:path w="1493" h="925">
                  <a:moveTo>
                    <a:pt x="0" y="0"/>
                  </a:moveTo>
                  <a:cubicBezTo>
                    <a:pt x="18" y="59"/>
                    <a:pt x="44" y="258"/>
                    <a:pt x="106" y="356"/>
                  </a:cubicBezTo>
                  <a:cubicBezTo>
                    <a:pt x="168" y="454"/>
                    <a:pt x="240" y="513"/>
                    <a:pt x="373" y="587"/>
                  </a:cubicBezTo>
                  <a:cubicBezTo>
                    <a:pt x="506" y="661"/>
                    <a:pt x="719" y="744"/>
                    <a:pt x="906" y="800"/>
                  </a:cubicBezTo>
                  <a:cubicBezTo>
                    <a:pt x="1093" y="856"/>
                    <a:pt x="1371" y="899"/>
                    <a:pt x="1493" y="92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38600" y="1351440"/>
              <a:ext cx="906840" cy="571320"/>
            </a:xfrm>
            <a:custGeom>
              <a:avLst/>
              <a:gdLst/>
              <a:ahLst/>
              <a:rect l="l" t="t" r="r" b="b"/>
              <a:pathLst>
                <a:path w="1334" h="854">
                  <a:moveTo>
                    <a:pt x="1334" y="0"/>
                  </a:moveTo>
                  <a:cubicBezTo>
                    <a:pt x="1323" y="69"/>
                    <a:pt x="1312" y="139"/>
                    <a:pt x="1262" y="231"/>
                  </a:cubicBezTo>
                  <a:cubicBezTo>
                    <a:pt x="1212" y="323"/>
                    <a:pt x="1138" y="462"/>
                    <a:pt x="1031" y="551"/>
                  </a:cubicBezTo>
                  <a:cubicBezTo>
                    <a:pt x="924" y="640"/>
                    <a:pt x="794" y="714"/>
                    <a:pt x="622" y="765"/>
                  </a:cubicBezTo>
                  <a:cubicBezTo>
                    <a:pt x="450" y="816"/>
                    <a:pt x="225" y="835"/>
                    <a:pt x="0" y="85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835280" y="5954760"/>
            <a:ext cx="6140160" cy="154080"/>
          </a:xfrm>
          <a:prstGeom prst="rect">
            <a:avLst/>
          </a:prstGeom>
          <a:solidFill>
            <a:srgbClr val="71ff71"/>
          </a:solidFill>
          <a:ln w="9360">
            <a:solidFill>
              <a:srgbClr val="71f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812960" y="6108840"/>
            <a:ext cx="6146640" cy="357120"/>
          </a:xfrm>
          <a:prstGeom prst="triangle">
            <a:avLst>
              <a:gd name="adj" fmla="val 50000"/>
            </a:avLst>
          </a:prstGeom>
          <a:solidFill>
            <a:srgbClr val="71ff71"/>
          </a:solidFill>
          <a:ln w="9360">
            <a:solidFill>
              <a:srgbClr val="71f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95560" y="5942160"/>
            <a:ext cx="3868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обітна плата та інші дох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94200" y="6442200"/>
            <a:ext cx="0" cy="15552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1480" y="6571800"/>
            <a:ext cx="4179960" cy="4788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6920" y="5937120"/>
            <a:ext cx="11160" cy="654120"/>
          </a:xfrm>
          <a:prstGeom prst="line">
            <a:avLst/>
          </a:prstGeom>
          <a:ln w="12708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13160" y="5038560"/>
            <a:ext cx="0" cy="260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13120" y="5025960"/>
            <a:ext cx="11160" cy="3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78600" y="4984920"/>
            <a:ext cx="0" cy="357120"/>
          </a:xfrm>
          <a:prstGeom prst="line">
            <a:avLst/>
          </a:prstGeom>
          <a:ln w="572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78560" y="5021280"/>
            <a:ext cx="23760" cy="32076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73640" y="1220760"/>
            <a:ext cx="319068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інансово-кредит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rot="5400000">
            <a:off x="3941640" y="1299600"/>
            <a:ext cx="452520" cy="411120"/>
          </a:xfrm>
          <a:custGeom>
            <a:avLst/>
            <a:gdLst>
              <a:gd name="textAreaLeft" fmla="*/ 118800 w 452520"/>
              <a:gd name="textAreaRight" fmla="*/ 376200 w 452520"/>
              <a:gd name="textAreaTop" fmla="*/ 222120 h 411120"/>
              <a:gd name="textAreaBottom" fmla="*/ 342000 h 411120"/>
            </a:gdLst>
            <a:ahLst/>
            <a:rect l="textAreaLeft" t="textAreaTop" r="textAreaRight" b="textAreaBottom"/>
            <a:pathLst>
              <a:path w="21600" h="21600">
                <a:moveTo>
                  <a:pt x="0" y="15315"/>
                </a:moveTo>
                <a:lnTo>
                  <a:pt x="11668" y="15315"/>
                </a:lnTo>
                <a:lnTo>
                  <a:pt x="11668" y="5681"/>
                </a:lnTo>
                <a:lnTo>
                  <a:pt x="8021" y="5681"/>
                </a:lnTo>
                <a:lnTo>
                  <a:pt x="14811" y="0"/>
                </a:lnTo>
                <a:lnTo>
                  <a:pt x="21600" y="5681"/>
                </a:lnTo>
                <a:lnTo>
                  <a:pt x="17953" y="5681"/>
                </a:lnTo>
                <a:lnTo>
                  <a:pt x="17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rot="10800000">
            <a:off x="7545960" y="1297080"/>
            <a:ext cx="447480" cy="404640"/>
          </a:xfrm>
          <a:custGeom>
            <a:avLst/>
            <a:gdLst>
              <a:gd name="textAreaLeft" fmla="*/ 117360 w 447480"/>
              <a:gd name="textAreaRight" fmla="*/ 371520 w 447480"/>
              <a:gd name="textAreaTop" fmla="*/ 218520 h 404640"/>
              <a:gd name="textAreaBottom" fmla="*/ 3366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5315"/>
                </a:moveTo>
                <a:lnTo>
                  <a:pt x="11668" y="15315"/>
                </a:lnTo>
                <a:lnTo>
                  <a:pt x="11668" y="5681"/>
                </a:lnTo>
                <a:lnTo>
                  <a:pt x="8021" y="5681"/>
                </a:lnTo>
                <a:lnTo>
                  <a:pt x="14811" y="0"/>
                </a:lnTo>
                <a:lnTo>
                  <a:pt x="21600" y="5681"/>
                </a:lnTo>
                <a:lnTo>
                  <a:pt x="17953" y="5681"/>
                </a:lnTo>
                <a:lnTo>
                  <a:pt x="17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95360" y="1230480"/>
            <a:ext cx="1449720" cy="28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кспорт-ім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03680" y="1494000"/>
            <a:ext cx="0" cy="274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84560" y="1500120"/>
            <a:ext cx="0" cy="2732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0800000">
            <a:off x="8411760" y="1719000"/>
            <a:ext cx="663480" cy="4413240"/>
          </a:xfrm>
          <a:prstGeom prst="rect">
            <a:avLst/>
          </a:prstGeom>
          <a:solidFill>
            <a:srgbClr val="f8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951680" y="2599920"/>
            <a:ext cx="544680" cy="3492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7956720" y="3462120"/>
            <a:ext cx="545760" cy="34920"/>
          </a:xfrm>
          <a:prstGeom prst="line">
            <a:avLst/>
          </a:prstGeom>
          <a:ln w="127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934400" y="6006960"/>
            <a:ext cx="544320" cy="36720"/>
          </a:xfrm>
          <a:prstGeom prst="line">
            <a:avLst/>
          </a:prstGeom>
          <a:ln w="763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5059440" y="2449080"/>
            <a:ext cx="605880" cy="24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Машинобудування і приладобуд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38680" y="3186000"/>
            <a:ext cx="4191120" cy="1059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снуюча парадиг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мало купили – мало виробили – мало зароб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0120" y="4419720"/>
            <a:ext cx="4175280" cy="105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ова парадиг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агато виробили – багато заробили – багато куп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868320"/>
            <a:ext cx="8534520" cy="1373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Забезпечення інноваційною продукцією в необхідній кількості потреби внутрішнього і зовнішнього рин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9:50:47Z</dcterms:created>
  <dc:creator>Юра</dc:creator>
  <dc:description/>
  <dc:language>en-US</dc:language>
  <cp:lastModifiedBy>Zhdanova</cp:lastModifiedBy>
  <dcterms:modified xsi:type="dcterms:W3CDTF">2007-05-31T11:33:55Z</dcterms:modified>
  <cp:revision>300</cp:revision>
  <dc:subject/>
  <dc:title>Объемы продаж винтовых компрессорных установок концерна за 7 месяцев 2003 года по Украине в разрезе производительности и объемы импорта</dc:title>
</cp:coreProperties>
</file>